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4B3-F055-4995-9149-76007DB3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C24-6DF3-4FAE-AF4F-921D0FF2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873-6563-4429-BCE1-BA7D29CF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114-D4FF-4BE6-A8CF-25E4C3A7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E7B1-D23F-41FF-B163-B0BE7D08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7C60-965D-456A-99ED-9B90BC21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69F4-8DBA-4A14-92E0-B48C852C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3FF6-A442-470C-9732-CB00A025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CFB0-F06D-4BFE-983F-CCEAE9B2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2EB9-BC82-45F4-A530-75275AAA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E3D3-9FA2-4D62-8A61-D380DD05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F97-506F-4F9D-887D-D926EC93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76D9-D772-427F-B37E-D022AEB7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39E4-7832-42D1-B9A4-BAEDC4DF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370F-592D-40BB-8738-70B5B97A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D3DD-5785-4AAF-995C-2140CEC8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E0D0-DB00-4240-B24E-191C1E49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2FE-D612-4179-B32D-AC3D4202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6E7-E413-40D6-8E37-5AD0CEAB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42E-9808-449D-A3F9-14AD9228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27A-0BCD-4C29-B081-D2C9D995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508-5E91-4D41-B285-9DC0D5D0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06D-ACF3-4AF2-949B-1488948A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0FE-D716-4319-AC04-6003AA8E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9423-089B-4A88-8A78-C1BFB36332F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E418-C0D9-41B1-9449-3BB2DC07C1F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Warm-up:  MSA Day 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Unit 7: Measuremen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 Students will find the volume of prisms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2000" y="4375080"/>
            <a:ext cx="1243080" cy="90720"/>
          </a:xfrm>
          <a:custGeom>
            <a:avLst/>
            <a:gdLst/>
            <a:ahLst/>
            <a:rect l="l" t="t" r="r" b="b"/>
            <a:pathLst>
              <a:path w="3449" h="249">
                <a:moveTo>
                  <a:pt x="2952" y="12402"/>
                </a:moveTo>
                <a:cubicBezTo>
                  <a:pt x="3123" y="12358"/>
                  <a:pt x="3316" y="12315"/>
                  <a:pt x="3473" y="12254"/>
                </a:cubicBezTo>
              </a:path>
              <a:path w="3449" h="249">
                <a:moveTo>
                  <a:pt x="4688" y="12154"/>
                </a:moveTo>
                <a:cubicBezTo>
                  <a:pt x="4711" y="12177"/>
                  <a:pt x="4719" y="12181"/>
                  <a:pt x="4713" y="12204"/>
                </a:cubicBezTo>
              </a:path>
              <a:path w="3449" h="249">
                <a:moveTo>
                  <a:pt x="6350" y="12204"/>
                </a:moveTo>
                <a:cubicBezTo>
                  <a:pt x="6350" y="12254"/>
                  <a:pt x="6350" y="12271"/>
                  <a:pt x="6400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0960" y="4303800"/>
            <a:ext cx="214200" cy="295200"/>
          </a:xfrm>
          <a:custGeom>
            <a:avLst/>
            <a:gdLst/>
            <a:ahLst/>
            <a:rect l="l" t="t" r="r" b="b"/>
            <a:pathLst>
              <a:path w="596" h="819">
                <a:moveTo>
                  <a:pt x="2084" y="12254"/>
                </a:moveTo>
                <a:cubicBezTo>
                  <a:pt x="2162" y="12254"/>
                  <a:pt x="2100" y="12272"/>
                  <a:pt x="2084" y="12204"/>
                </a:cubicBezTo>
                <a:cubicBezTo>
                  <a:pt x="2084" y="12187"/>
                  <a:pt x="2084" y="12171"/>
                  <a:pt x="2084" y="12154"/>
                </a:cubicBezTo>
                <a:cubicBezTo>
                  <a:pt x="2084" y="12094"/>
                  <a:pt x="2200" y="12505"/>
                  <a:pt x="2208" y="12526"/>
                </a:cubicBezTo>
                <a:cubicBezTo>
                  <a:pt x="2244" y="12623"/>
                  <a:pt x="2273" y="12685"/>
                  <a:pt x="2307" y="12774"/>
                </a:cubicBezTo>
                <a:cubicBezTo>
                  <a:pt x="2433" y="12774"/>
                  <a:pt x="2454" y="12558"/>
                  <a:pt x="2480" y="12477"/>
                </a:cubicBezTo>
                <a:cubicBezTo>
                  <a:pt x="2545" y="12279"/>
                  <a:pt x="2576" y="12127"/>
                  <a:pt x="2679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98720" y="4348080"/>
            <a:ext cx="133200" cy="36720"/>
          </a:xfrm>
          <a:custGeom>
            <a:avLst/>
            <a:gdLst/>
            <a:ahLst/>
            <a:rect l="l" t="t" r="r" b="b"/>
            <a:pathLst>
              <a:path w="373" h="100">
                <a:moveTo>
                  <a:pt x="3051" y="12179"/>
                </a:moveTo>
                <a:cubicBezTo>
                  <a:pt x="3177" y="12137"/>
                  <a:pt x="3305" y="12075"/>
                  <a:pt x="3423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6120" y="4224240"/>
            <a:ext cx="27000" cy="285840"/>
          </a:xfrm>
          <a:custGeom>
            <a:avLst/>
            <a:gdLst/>
            <a:ahLst/>
            <a:rect l="l" t="t" r="r" b="b"/>
            <a:pathLst>
              <a:path w="76" h="794">
                <a:moveTo>
                  <a:pt x="4018" y="11733"/>
                </a:moveTo>
                <a:cubicBezTo>
                  <a:pt x="4048" y="11997"/>
                  <a:pt x="4078" y="12261"/>
                  <a:pt x="4093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9960" y="4276800"/>
            <a:ext cx="339840" cy="206280"/>
          </a:xfrm>
          <a:custGeom>
            <a:avLst/>
            <a:gdLst/>
            <a:ahLst/>
            <a:rect l="l" t="t" r="r" b="b"/>
            <a:pathLst>
              <a:path w="943" h="572">
                <a:moveTo>
                  <a:pt x="5110" y="11881"/>
                </a:moveTo>
                <a:cubicBezTo>
                  <a:pt x="5135" y="12029"/>
                  <a:pt x="5129" y="12242"/>
                  <a:pt x="5184" y="12378"/>
                </a:cubicBezTo>
                <a:cubicBezTo>
                  <a:pt x="5294" y="12649"/>
                  <a:pt x="5545" y="12122"/>
                  <a:pt x="5581" y="12055"/>
                </a:cubicBezTo>
                <a:cubicBezTo>
                  <a:pt x="5589" y="12030"/>
                  <a:pt x="5598" y="12006"/>
                  <a:pt x="5606" y="11981"/>
                </a:cubicBezTo>
                <a:cubicBezTo>
                  <a:pt x="5606" y="12142"/>
                  <a:pt x="5571" y="12415"/>
                  <a:pt x="5804" y="12452"/>
                </a:cubicBezTo>
                <a:cubicBezTo>
                  <a:pt x="5854" y="12435"/>
                  <a:pt x="5903" y="12419"/>
                  <a:pt x="5953" y="12402"/>
                </a:cubicBezTo>
                <a:cubicBezTo>
                  <a:pt x="6028" y="12253"/>
                  <a:pt x="6128" y="12010"/>
                  <a:pt x="5879" y="11931"/>
                </a:cubicBezTo>
                <a:cubicBezTo>
                  <a:pt x="5871" y="11939"/>
                  <a:pt x="5862" y="11948"/>
                  <a:pt x="5854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4133880"/>
            <a:ext cx="268560" cy="376200"/>
          </a:xfrm>
          <a:custGeom>
            <a:avLst/>
            <a:gdLst/>
            <a:ahLst/>
            <a:rect l="l" t="t" r="r" b="b"/>
            <a:pathLst>
              <a:path w="745" h="1042">
                <a:moveTo>
                  <a:pt x="6772" y="11485"/>
                </a:moveTo>
                <a:cubicBezTo>
                  <a:pt x="6797" y="11740"/>
                  <a:pt x="6801" y="11998"/>
                  <a:pt x="6821" y="12254"/>
                </a:cubicBezTo>
                <a:cubicBezTo>
                  <a:pt x="6829" y="12303"/>
                  <a:pt x="6838" y="12353"/>
                  <a:pt x="6846" y="12402"/>
                </a:cubicBezTo>
                <a:cubicBezTo>
                  <a:pt x="6853" y="12356"/>
                  <a:pt x="6912" y="12095"/>
                  <a:pt x="7020" y="11981"/>
                </a:cubicBezTo>
                <a:cubicBezTo>
                  <a:pt x="7061" y="11956"/>
                  <a:pt x="7103" y="11931"/>
                  <a:pt x="7144" y="11906"/>
                </a:cubicBezTo>
                <a:cubicBezTo>
                  <a:pt x="7268" y="12093"/>
                  <a:pt x="7125" y="12358"/>
                  <a:pt x="7243" y="12526"/>
                </a:cubicBezTo>
                <a:cubicBezTo>
                  <a:pt x="7312" y="12623"/>
                  <a:pt x="7417" y="12471"/>
                  <a:pt x="7491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:  Students will find the volume of prisms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Vocabul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olume: amount of space a solid occupies (aka – space inside 3D)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olume of a rectangular prism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4343400"/>
            <a:ext cx="1447920" cy="15238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5943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1048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8390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98560" y="559908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lume = length • width • he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w</a:t>
            </a:r>
            <a:r>
              <a:rPr b="0" i="1" lang="en-US" sz="2800" spc="-1" strike="noStrike">
                <a:solidFill>
                  <a:srgbClr val="ff00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12040" y="5732640"/>
            <a:ext cx="1517760" cy="706320"/>
          </a:xfrm>
          <a:custGeom>
            <a:avLst/>
            <a:gdLst/>
            <a:ahLst/>
            <a:rect l="l" t="t" r="r" b="b"/>
            <a:pathLst>
              <a:path w="4218" h="1960">
                <a:moveTo>
                  <a:pt x="20960" y="17835"/>
                </a:moveTo>
                <a:cubicBezTo>
                  <a:pt x="21047" y="17849"/>
                  <a:pt x="21146" y="17877"/>
                  <a:pt x="21233" y="17884"/>
                </a:cubicBezTo>
                <a:cubicBezTo>
                  <a:pt x="21562" y="17910"/>
                  <a:pt x="21898" y="17874"/>
                  <a:pt x="22225" y="17859"/>
                </a:cubicBezTo>
                <a:cubicBezTo>
                  <a:pt x="22456" y="17848"/>
                  <a:pt x="22675" y="17819"/>
                  <a:pt x="22895" y="17735"/>
                </a:cubicBezTo>
                <a:cubicBezTo>
                  <a:pt x="23085" y="17662"/>
                  <a:pt x="23256" y="17534"/>
                  <a:pt x="23416" y="17413"/>
                </a:cubicBezTo>
                <a:cubicBezTo>
                  <a:pt x="23563" y="17302"/>
                  <a:pt x="23679" y="17162"/>
                  <a:pt x="23812" y="17041"/>
                </a:cubicBezTo>
                <a:cubicBezTo>
                  <a:pt x="23912" y="16950"/>
                  <a:pt x="24111" y="16880"/>
                  <a:pt x="24185" y="16768"/>
                </a:cubicBezTo>
                <a:cubicBezTo>
                  <a:pt x="24208" y="16733"/>
                  <a:pt x="24152" y="16708"/>
                  <a:pt x="24209" y="16644"/>
                </a:cubicBezTo>
                <a:cubicBezTo>
                  <a:pt x="24252" y="16595"/>
                  <a:pt x="24335" y="16568"/>
                  <a:pt x="24383" y="16545"/>
                </a:cubicBezTo>
                <a:cubicBezTo>
                  <a:pt x="24459" y="16508"/>
                  <a:pt x="24593" y="16487"/>
                  <a:pt x="24656" y="16446"/>
                </a:cubicBezTo>
                <a:cubicBezTo>
                  <a:pt x="24739" y="16392"/>
                  <a:pt x="24837" y="16251"/>
                  <a:pt x="24805" y="16148"/>
                </a:cubicBezTo>
                <a:cubicBezTo>
                  <a:pt x="24769" y="16030"/>
                  <a:pt x="24606" y="16024"/>
                  <a:pt x="24507" y="15999"/>
                </a:cubicBezTo>
                <a:cubicBezTo>
                  <a:pt x="24343" y="15958"/>
                  <a:pt x="24133" y="15881"/>
                  <a:pt x="23961" y="15925"/>
                </a:cubicBezTo>
                <a:cubicBezTo>
                  <a:pt x="23771" y="15973"/>
                  <a:pt x="23566" y="16179"/>
                  <a:pt x="23391" y="16272"/>
                </a:cubicBezTo>
                <a:cubicBezTo>
                  <a:pt x="23197" y="16374"/>
                  <a:pt x="23000" y="16490"/>
                  <a:pt x="22796" y="16570"/>
                </a:cubicBezTo>
                <a:cubicBezTo>
                  <a:pt x="22585" y="16653"/>
                  <a:pt x="22352" y="16704"/>
                  <a:pt x="22126" y="16718"/>
                </a:cubicBezTo>
                <a:cubicBezTo>
                  <a:pt x="21881" y="16733"/>
                  <a:pt x="21625" y="16617"/>
                  <a:pt x="21382" y="16669"/>
                </a:cubicBezTo>
                <a:cubicBezTo>
                  <a:pt x="21233" y="16701"/>
                  <a:pt x="21081" y="16805"/>
                  <a:pt x="20960" y="16892"/>
                </a:cubicBezTo>
                <a:cubicBezTo>
                  <a:pt x="20847" y="16973"/>
                  <a:pt x="20709" y="17077"/>
                  <a:pt x="20662" y="17214"/>
                </a:cubicBezTo>
                <a:cubicBezTo>
                  <a:pt x="20625" y="17323"/>
                  <a:pt x="20562" y="17495"/>
                  <a:pt x="20588" y="17611"/>
                </a:cubicBezTo>
                <a:cubicBezTo>
                  <a:pt x="20605" y="17689"/>
                  <a:pt x="20639" y="17776"/>
                  <a:pt x="20712" y="17810"/>
                </a:cubicBezTo>
                <a:cubicBezTo>
                  <a:pt x="20782" y="17843"/>
                  <a:pt x="20937" y="17878"/>
                  <a:pt x="21010" y="17884"/>
                </a:cubicBezTo>
                <a:cubicBezTo>
                  <a:pt x="21010" y="17876"/>
                  <a:pt x="21010" y="17867"/>
                  <a:pt x="21010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72240" y="4330800"/>
            <a:ext cx="874800" cy="411120"/>
          </a:xfrm>
          <a:custGeom>
            <a:avLst/>
            <a:gdLst/>
            <a:ahLst/>
            <a:rect l="l" t="t" r="r" b="b"/>
            <a:pathLst>
              <a:path w="2432" h="1142">
                <a:moveTo>
                  <a:pt x="21779" y="12254"/>
                </a:moveTo>
                <a:cubicBezTo>
                  <a:pt x="21581" y="12350"/>
                  <a:pt x="21836" y="12222"/>
                  <a:pt x="21729" y="12204"/>
                </a:cubicBezTo>
                <a:cubicBezTo>
                  <a:pt x="21671" y="12194"/>
                  <a:pt x="21593" y="12275"/>
                  <a:pt x="21481" y="12353"/>
                </a:cubicBezTo>
                <a:cubicBezTo>
                  <a:pt x="21401" y="12409"/>
                  <a:pt x="21357" y="12440"/>
                  <a:pt x="21282" y="12502"/>
                </a:cubicBezTo>
                <a:cubicBezTo>
                  <a:pt x="21370" y="12426"/>
                  <a:pt x="21934" y="11935"/>
                  <a:pt x="22051" y="12030"/>
                </a:cubicBezTo>
                <a:cubicBezTo>
                  <a:pt x="22375" y="12292"/>
                  <a:pt x="21417" y="12569"/>
                  <a:pt x="21109" y="12849"/>
                </a:cubicBezTo>
                <a:cubicBezTo>
                  <a:pt x="20913" y="13027"/>
                  <a:pt x="21816" y="12401"/>
                  <a:pt x="21903" y="12353"/>
                </a:cubicBezTo>
                <a:cubicBezTo>
                  <a:pt x="22840" y="11836"/>
                  <a:pt x="21698" y="12629"/>
                  <a:pt x="21555" y="12725"/>
                </a:cubicBezTo>
                <a:cubicBezTo>
                  <a:pt x="21273" y="12913"/>
                  <a:pt x="21235" y="12931"/>
                  <a:pt x="21084" y="13047"/>
                </a:cubicBezTo>
                <a:cubicBezTo>
                  <a:pt x="21502" y="12769"/>
                  <a:pt x="21908" y="12539"/>
                  <a:pt x="22374" y="12353"/>
                </a:cubicBezTo>
                <a:cubicBezTo>
                  <a:pt x="22070" y="12574"/>
                  <a:pt x="21265" y="13157"/>
                  <a:pt x="21605" y="12998"/>
                </a:cubicBezTo>
                <a:cubicBezTo>
                  <a:pt x="22078" y="12777"/>
                  <a:pt x="23266" y="11882"/>
                  <a:pt x="22994" y="12328"/>
                </a:cubicBezTo>
                <a:cubicBezTo>
                  <a:pt x="22834" y="12589"/>
                  <a:pt x="22436" y="12780"/>
                  <a:pt x="22200" y="12973"/>
                </a:cubicBezTo>
                <a:cubicBezTo>
                  <a:pt x="22340" y="12905"/>
                  <a:pt x="23450" y="12313"/>
                  <a:pt x="23044" y="12650"/>
                </a:cubicBezTo>
                <a:cubicBezTo>
                  <a:pt x="22735" y="12887"/>
                  <a:pt x="22642" y="12958"/>
                  <a:pt x="22448" y="13122"/>
                </a:cubicBezTo>
                <a:cubicBezTo>
                  <a:pt x="22640" y="13144"/>
                  <a:pt x="23128" y="12748"/>
                  <a:pt x="23465" y="12650"/>
                </a:cubicBezTo>
                <a:cubicBezTo>
                  <a:pt x="23465" y="12667"/>
                  <a:pt x="23465" y="12683"/>
                  <a:pt x="23465" y="12700"/>
                </a:cubicBezTo>
                <a:cubicBezTo>
                  <a:pt x="23413" y="12739"/>
                  <a:pt x="22608" y="13371"/>
                  <a:pt x="23068" y="13047"/>
                </a:cubicBezTo>
                <a:cubicBezTo>
                  <a:pt x="23559" y="12701"/>
                  <a:pt x="23479" y="12794"/>
                  <a:pt x="23217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87880" y="6446880"/>
            <a:ext cx="162000" cy="90360"/>
          </a:xfrm>
          <a:custGeom>
            <a:avLst/>
            <a:gdLst/>
            <a:ahLst/>
            <a:rect l="l" t="t" r="r" b="b"/>
            <a:pathLst>
              <a:path w="448" h="249">
                <a:moveTo>
                  <a:pt x="11658" y="18107"/>
                </a:moveTo>
                <a:cubicBezTo>
                  <a:pt x="11658" y="18048"/>
                  <a:pt x="11665" y="18051"/>
                  <a:pt x="11633" y="18008"/>
                </a:cubicBezTo>
                <a:cubicBezTo>
                  <a:pt x="11633" y="18058"/>
                  <a:pt x="11633" y="18107"/>
                  <a:pt x="11633" y="18157"/>
                </a:cubicBezTo>
                <a:cubicBezTo>
                  <a:pt x="11702" y="18157"/>
                  <a:pt x="11761" y="18135"/>
                  <a:pt x="11832" y="18132"/>
                </a:cubicBezTo>
                <a:cubicBezTo>
                  <a:pt x="11917" y="18129"/>
                  <a:pt x="12010" y="18134"/>
                  <a:pt x="12055" y="18157"/>
                </a:cubicBezTo>
                <a:cubicBezTo>
                  <a:pt x="12063" y="18157"/>
                  <a:pt x="12072" y="18157"/>
                  <a:pt x="12080" y="18157"/>
                </a:cubicBezTo>
                <a:cubicBezTo>
                  <a:pt x="12072" y="18099"/>
                  <a:pt x="12028" y="17994"/>
                  <a:pt x="12055" y="17934"/>
                </a:cubicBezTo>
                <a:cubicBezTo>
                  <a:pt x="12063" y="17926"/>
                  <a:pt x="12072" y="17917"/>
                  <a:pt x="12080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6200" y="6099120"/>
            <a:ext cx="63720" cy="115920"/>
          </a:xfrm>
          <a:custGeom>
            <a:avLst/>
            <a:gdLst/>
            <a:ahLst/>
            <a:rect l="l" t="t" r="r" b="b"/>
            <a:pathLst>
              <a:path w="175" h="323">
                <a:moveTo>
                  <a:pt x="13320" y="16966"/>
                </a:moveTo>
                <a:cubicBezTo>
                  <a:pt x="13264" y="16966"/>
                  <a:pt x="13350" y="16947"/>
                  <a:pt x="13370" y="16942"/>
                </a:cubicBezTo>
                <a:cubicBezTo>
                  <a:pt x="13388" y="17038"/>
                  <a:pt x="13389" y="17029"/>
                  <a:pt x="13345" y="17115"/>
                </a:cubicBezTo>
                <a:cubicBezTo>
                  <a:pt x="13378" y="17090"/>
                  <a:pt x="13458" y="17049"/>
                  <a:pt x="13469" y="17115"/>
                </a:cubicBezTo>
                <a:cubicBezTo>
                  <a:pt x="13494" y="17267"/>
                  <a:pt x="13422" y="17186"/>
                  <a:pt x="13370" y="17239"/>
                </a:cubicBezTo>
                <a:cubicBezTo>
                  <a:pt x="13370" y="17264"/>
                  <a:pt x="13370" y="17272"/>
                  <a:pt x="13370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bjective:  Students will find the volume of prism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ind the volume of the pris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1.) l=7in w=5in h=9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=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w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= 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●5●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= 35●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=315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429000" y="4724280"/>
          <a:ext cx="13968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724280"/>
                    <a:ext cx="1396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527880" y="2347920"/>
            <a:ext cx="1000080" cy="716040"/>
          </a:xfrm>
          <a:custGeom>
            <a:avLst/>
            <a:gdLst/>
            <a:ahLst/>
            <a:rect l="l" t="t" r="r" b="b"/>
            <a:pathLst>
              <a:path w="2779" h="1985">
                <a:moveTo>
                  <a:pt x="18281" y="6821"/>
                </a:moveTo>
                <a:cubicBezTo>
                  <a:pt x="18281" y="6954"/>
                  <a:pt x="18283" y="7039"/>
                  <a:pt x="18256" y="7169"/>
                </a:cubicBezTo>
                <a:cubicBezTo>
                  <a:pt x="18212" y="7386"/>
                  <a:pt x="18167" y="7596"/>
                  <a:pt x="18132" y="7813"/>
                </a:cubicBezTo>
                <a:cubicBezTo>
                  <a:pt x="18333" y="7779"/>
                  <a:pt x="18520" y="7755"/>
                  <a:pt x="18728" y="7764"/>
                </a:cubicBezTo>
                <a:cubicBezTo>
                  <a:pt x="18982" y="7775"/>
                  <a:pt x="19203" y="7851"/>
                  <a:pt x="19447" y="7888"/>
                </a:cubicBezTo>
                <a:cubicBezTo>
                  <a:pt x="19509" y="7898"/>
                  <a:pt x="19538" y="7909"/>
                  <a:pt x="19596" y="7913"/>
                </a:cubicBezTo>
                <a:cubicBezTo>
                  <a:pt x="19604" y="7913"/>
                  <a:pt x="19613" y="7913"/>
                  <a:pt x="19621" y="7913"/>
                </a:cubicBezTo>
                <a:cubicBezTo>
                  <a:pt x="19708" y="7630"/>
                  <a:pt x="19798" y="7350"/>
                  <a:pt x="19893" y="7069"/>
                </a:cubicBezTo>
                <a:cubicBezTo>
                  <a:pt x="19901" y="7044"/>
                  <a:pt x="19910" y="7020"/>
                  <a:pt x="19918" y="6995"/>
                </a:cubicBezTo>
                <a:cubicBezTo>
                  <a:pt x="19758" y="6984"/>
                  <a:pt x="19610" y="6972"/>
                  <a:pt x="19447" y="6970"/>
                </a:cubicBezTo>
                <a:cubicBezTo>
                  <a:pt x="19194" y="6967"/>
                  <a:pt x="18951" y="6949"/>
                  <a:pt x="18703" y="6896"/>
                </a:cubicBezTo>
                <a:cubicBezTo>
                  <a:pt x="18600" y="6874"/>
                  <a:pt x="18509" y="6871"/>
                  <a:pt x="18405" y="6871"/>
                </a:cubicBezTo>
                <a:cubicBezTo>
                  <a:pt x="18638" y="6767"/>
                  <a:pt x="18881" y="6640"/>
                  <a:pt x="19124" y="6548"/>
                </a:cubicBezTo>
                <a:cubicBezTo>
                  <a:pt x="19198" y="6530"/>
                  <a:pt x="19205" y="6522"/>
                  <a:pt x="19248" y="6524"/>
                </a:cubicBezTo>
              </a:path>
              <a:path w="2779" h="1985">
                <a:moveTo>
                  <a:pt x="19323" y="6573"/>
                </a:moveTo>
                <a:cubicBezTo>
                  <a:pt x="19410" y="6546"/>
                  <a:pt x="19546" y="6521"/>
                  <a:pt x="19645" y="6524"/>
                </a:cubicBezTo>
                <a:cubicBezTo>
                  <a:pt x="19903" y="6531"/>
                  <a:pt x="20244" y="6540"/>
                  <a:pt x="20489" y="6623"/>
                </a:cubicBezTo>
                <a:cubicBezTo>
                  <a:pt x="20522" y="6634"/>
                  <a:pt x="20564" y="6679"/>
                  <a:pt x="20563" y="6722"/>
                </a:cubicBezTo>
                <a:cubicBezTo>
                  <a:pt x="20559" y="6945"/>
                  <a:pt x="20526" y="7170"/>
                  <a:pt x="20513" y="7392"/>
                </a:cubicBezTo>
                <a:cubicBezTo>
                  <a:pt x="20513" y="7400"/>
                  <a:pt x="20513" y="7409"/>
                  <a:pt x="20513" y="7417"/>
                </a:cubicBezTo>
              </a:path>
              <a:path w="2779" h="1985">
                <a:moveTo>
                  <a:pt x="19893" y="7789"/>
                </a:moveTo>
                <a:cubicBezTo>
                  <a:pt x="19792" y="7737"/>
                  <a:pt x="19998" y="7628"/>
                  <a:pt x="20092" y="7565"/>
                </a:cubicBezTo>
                <a:cubicBezTo>
                  <a:pt x="20146" y="7529"/>
                  <a:pt x="20459" y="7317"/>
                  <a:pt x="20563" y="7317"/>
                </a:cubicBezTo>
              </a:path>
              <a:path w="2779" h="1985">
                <a:moveTo>
                  <a:pt x="20092" y="7119"/>
                </a:moveTo>
                <a:cubicBezTo>
                  <a:pt x="20082" y="7080"/>
                  <a:pt x="20067" y="7064"/>
                  <a:pt x="20067" y="7020"/>
                </a:cubicBezTo>
                <a:cubicBezTo>
                  <a:pt x="20017" y="7045"/>
                  <a:pt x="20001" y="7053"/>
                  <a:pt x="19968" y="7069"/>
                </a:cubicBezTo>
              </a:path>
              <a:path w="2779" h="1985">
                <a:moveTo>
                  <a:pt x="18455" y="8012"/>
                </a:moveTo>
                <a:cubicBezTo>
                  <a:pt x="18580" y="7999"/>
                  <a:pt x="18703" y="7979"/>
                  <a:pt x="18827" y="7962"/>
                </a:cubicBezTo>
                <a:cubicBezTo>
                  <a:pt x="18835" y="7962"/>
                  <a:pt x="18844" y="7962"/>
                  <a:pt x="18852" y="7962"/>
                </a:cubicBezTo>
                <a:cubicBezTo>
                  <a:pt x="18852" y="8126"/>
                  <a:pt x="18798" y="8278"/>
                  <a:pt x="18752" y="8434"/>
                </a:cubicBezTo>
                <a:cubicBezTo>
                  <a:pt x="18744" y="8459"/>
                  <a:pt x="18736" y="8483"/>
                  <a:pt x="18728" y="8508"/>
                </a:cubicBezTo>
              </a:path>
              <a:path w="2779" h="1985">
                <a:moveTo>
                  <a:pt x="20489" y="7739"/>
                </a:moveTo>
                <a:cubicBezTo>
                  <a:pt x="20456" y="7725"/>
                  <a:pt x="20306" y="7679"/>
                  <a:pt x="20265" y="7714"/>
                </a:cubicBezTo>
                <a:cubicBezTo>
                  <a:pt x="20236" y="7738"/>
                  <a:pt x="20244" y="7898"/>
                  <a:pt x="20241" y="7938"/>
                </a:cubicBezTo>
                <a:cubicBezTo>
                  <a:pt x="20311" y="7938"/>
                  <a:pt x="20374" y="7886"/>
                  <a:pt x="20439" y="7888"/>
                </a:cubicBezTo>
                <a:cubicBezTo>
                  <a:pt x="20533" y="7907"/>
                  <a:pt x="20553" y="7894"/>
                  <a:pt x="20588" y="7938"/>
                </a:cubicBezTo>
                <a:cubicBezTo>
                  <a:pt x="20588" y="8080"/>
                  <a:pt x="20425" y="8157"/>
                  <a:pt x="20265" y="8161"/>
                </a:cubicBezTo>
                <a:cubicBezTo>
                  <a:pt x="20198" y="8138"/>
                  <a:pt x="20177" y="8137"/>
                  <a:pt x="20166" y="8086"/>
                </a:cubicBezTo>
              </a:path>
              <a:path w="2779" h="1985">
                <a:moveTo>
                  <a:pt x="20910" y="6697"/>
                </a:moveTo>
                <a:cubicBezTo>
                  <a:pt x="20833" y="6637"/>
                  <a:pt x="20804" y="6606"/>
                  <a:pt x="20712" y="6648"/>
                </a:cubicBezTo>
                <a:cubicBezTo>
                  <a:pt x="20638" y="6682"/>
                  <a:pt x="20642" y="6785"/>
                  <a:pt x="20662" y="6846"/>
                </a:cubicBezTo>
                <a:cubicBezTo>
                  <a:pt x="20781" y="6834"/>
                  <a:pt x="20848" y="6806"/>
                  <a:pt x="20910" y="6697"/>
                </a:cubicBezTo>
                <a:cubicBezTo>
                  <a:pt x="20913" y="6692"/>
                  <a:pt x="20891" y="6959"/>
                  <a:pt x="20886" y="7045"/>
                </a:cubicBezTo>
              </a:path>
              <a:path w="2779" h="1985">
                <a:moveTo>
                  <a:pt x="18306" y="7764"/>
                </a:moveTo>
                <a:cubicBezTo>
                  <a:pt x="18453" y="7653"/>
                  <a:pt x="18610" y="7559"/>
                  <a:pt x="18752" y="7441"/>
                </a:cubicBezTo>
                <a:cubicBezTo>
                  <a:pt x="18796" y="7404"/>
                  <a:pt x="18860" y="7325"/>
                  <a:pt x="18901" y="7317"/>
                </a:cubicBezTo>
                <a:cubicBezTo>
                  <a:pt x="19071" y="7283"/>
                  <a:pt x="19250" y="7354"/>
                  <a:pt x="19422" y="7342"/>
                </a:cubicBezTo>
                <a:cubicBezTo>
                  <a:pt x="19609" y="7329"/>
                  <a:pt x="19718" y="7332"/>
                  <a:pt x="19893" y="7367"/>
                </a:cubicBezTo>
                <a:cubicBezTo>
                  <a:pt x="19958" y="7380"/>
                  <a:pt x="20003" y="7365"/>
                  <a:pt x="20067" y="7392"/>
                </a:cubicBezTo>
                <a:cubicBezTo>
                  <a:pt x="20131" y="7419"/>
                  <a:pt x="20179" y="7423"/>
                  <a:pt x="20241" y="7441"/>
                </a:cubicBezTo>
                <a:cubicBezTo>
                  <a:pt x="20241" y="7474"/>
                  <a:pt x="20249" y="7482"/>
                  <a:pt x="20290" y="7466"/>
                </a:cubicBezTo>
              </a:path>
              <a:path w="2779" h="1985">
                <a:moveTo>
                  <a:pt x="19100" y="6747"/>
                </a:moveTo>
                <a:cubicBezTo>
                  <a:pt x="19100" y="6703"/>
                  <a:pt x="19101" y="6707"/>
                  <a:pt x="19075" y="6672"/>
                </a:cubicBezTo>
                <a:cubicBezTo>
                  <a:pt x="19075" y="6887"/>
                  <a:pt x="19053" y="7101"/>
                  <a:pt x="19050" y="7317"/>
                </a:cubicBezTo>
                <a:cubicBezTo>
                  <a:pt x="19050" y="7418"/>
                  <a:pt x="19040" y="7439"/>
                  <a:pt x="19075" y="7491"/>
                </a:cubicBezTo>
              </a:path>
              <a:path w="2779" h="1985">
                <a:moveTo>
                  <a:pt x="19025" y="7516"/>
                </a:moveTo>
                <a:cubicBezTo>
                  <a:pt x="18962" y="7526"/>
                  <a:pt x="18834" y="7600"/>
                  <a:pt x="18852" y="7590"/>
                </a:cubicBezTo>
                <a:cubicBezTo>
                  <a:pt x="18877" y="7574"/>
                  <a:pt x="18901" y="7557"/>
                  <a:pt x="18926" y="7541"/>
                </a:cubicBezTo>
                <a:cubicBezTo>
                  <a:pt x="18992" y="7521"/>
                  <a:pt x="19346" y="7372"/>
                  <a:pt x="19100" y="7541"/>
                </a:cubicBezTo>
                <a:cubicBezTo>
                  <a:pt x="19033" y="7587"/>
                  <a:pt x="18920" y="7635"/>
                  <a:pt x="18876" y="7689"/>
                </a:cubicBezTo>
                <a:cubicBezTo>
                  <a:pt x="18937" y="7661"/>
                  <a:pt x="19316" y="7424"/>
                  <a:pt x="19199" y="7565"/>
                </a:cubicBezTo>
                <a:cubicBezTo>
                  <a:pt x="19067" y="7725"/>
                  <a:pt x="19012" y="7736"/>
                  <a:pt x="19224" y="7615"/>
                </a:cubicBezTo>
                <a:cubicBezTo>
                  <a:pt x="19394" y="7530"/>
                  <a:pt x="19429" y="7503"/>
                  <a:pt x="19546" y="7491"/>
                </a:cubicBezTo>
                <a:cubicBezTo>
                  <a:pt x="19506" y="7518"/>
                  <a:pt x="19167" y="7780"/>
                  <a:pt x="19273" y="7739"/>
                </a:cubicBezTo>
                <a:cubicBezTo>
                  <a:pt x="19405" y="7688"/>
                  <a:pt x="19539" y="7620"/>
                  <a:pt x="19670" y="7565"/>
                </a:cubicBezTo>
                <a:cubicBezTo>
                  <a:pt x="19602" y="7615"/>
                  <a:pt x="19312" y="7811"/>
                  <a:pt x="19422" y="7764"/>
                </a:cubicBezTo>
                <a:cubicBezTo>
                  <a:pt x="19596" y="7689"/>
                  <a:pt x="19653" y="7664"/>
                  <a:pt x="19769" y="7615"/>
                </a:cubicBezTo>
                <a:cubicBezTo>
                  <a:pt x="19848" y="7692"/>
                  <a:pt x="19488" y="7743"/>
                  <a:pt x="19596" y="7764"/>
                </a:cubicBezTo>
                <a:cubicBezTo>
                  <a:pt x="19669" y="7779"/>
                  <a:pt x="19793" y="7652"/>
                  <a:pt x="19819" y="7665"/>
                </a:cubicBezTo>
              </a:path>
              <a:path w="2779" h="1985">
                <a:moveTo>
                  <a:pt x="19943" y="7590"/>
                </a:moveTo>
                <a:cubicBezTo>
                  <a:pt x="19893" y="7569"/>
                  <a:pt x="19811" y="7562"/>
                  <a:pt x="19720" y="7590"/>
                </a:cubicBezTo>
                <a:cubicBezTo>
                  <a:pt x="19593" y="7629"/>
                  <a:pt x="19808" y="7539"/>
                  <a:pt x="19844" y="7516"/>
                </a:cubicBezTo>
                <a:cubicBezTo>
                  <a:pt x="19860" y="7508"/>
                  <a:pt x="19877" y="7499"/>
                  <a:pt x="19893" y="7491"/>
                </a:cubicBezTo>
                <a:cubicBezTo>
                  <a:pt x="19790" y="7534"/>
                  <a:pt x="19658" y="7572"/>
                  <a:pt x="19546" y="7615"/>
                </a:cubicBezTo>
                <a:cubicBezTo>
                  <a:pt x="19386" y="7676"/>
                  <a:pt x="19776" y="7470"/>
                  <a:pt x="19819" y="7441"/>
                </a:cubicBezTo>
                <a:cubicBezTo>
                  <a:pt x="19827" y="7433"/>
                  <a:pt x="19836" y="7425"/>
                  <a:pt x="19844" y="7417"/>
                </a:cubicBezTo>
                <a:cubicBezTo>
                  <a:pt x="19684" y="7474"/>
                  <a:pt x="19536" y="7526"/>
                  <a:pt x="19372" y="7565"/>
                </a:cubicBezTo>
                <a:cubicBezTo>
                  <a:pt x="19476" y="7503"/>
                  <a:pt x="19781" y="7416"/>
                  <a:pt x="19670" y="7367"/>
                </a:cubicBezTo>
                <a:cubicBezTo>
                  <a:pt x="19611" y="7341"/>
                  <a:pt x="19326" y="7497"/>
                  <a:pt x="19348" y="7441"/>
                </a:cubicBezTo>
                <a:cubicBezTo>
                  <a:pt x="19372" y="7379"/>
                  <a:pt x="19554" y="7369"/>
                  <a:pt x="19447" y="7342"/>
                </a:cubicBezTo>
                <a:cubicBezTo>
                  <a:pt x="19298" y="7417"/>
                  <a:pt x="19249" y="7442"/>
                  <a:pt x="19149" y="7491"/>
                </a:cubicBezTo>
                <a:cubicBezTo>
                  <a:pt x="19150" y="7488"/>
                  <a:pt x="19217" y="7424"/>
                  <a:pt x="19224" y="7367"/>
                </a:cubicBezTo>
                <a:cubicBezTo>
                  <a:pt x="19234" y="7288"/>
                  <a:pt x="19129" y="7445"/>
                  <a:pt x="19050" y="7441"/>
                </a:cubicBezTo>
                <a:cubicBezTo>
                  <a:pt x="19006" y="7439"/>
                  <a:pt x="18862" y="7457"/>
                  <a:pt x="18777" y="7466"/>
                </a:cubicBezTo>
                <a:cubicBezTo>
                  <a:pt x="18713" y="7473"/>
                  <a:pt x="18798" y="7371"/>
                  <a:pt x="18752" y="7417"/>
                </a:cubicBezTo>
                <a:cubicBezTo>
                  <a:pt x="18710" y="7459"/>
                  <a:pt x="18594" y="7538"/>
                  <a:pt x="18529" y="7590"/>
                </a:cubicBezTo>
                <a:cubicBezTo>
                  <a:pt x="18461" y="7645"/>
                  <a:pt x="18563" y="7575"/>
                  <a:pt x="18529" y="7615"/>
                </a:cubicBezTo>
                <a:cubicBezTo>
                  <a:pt x="18462" y="7696"/>
                  <a:pt x="18367" y="7754"/>
                  <a:pt x="18504" y="7714"/>
                </a:cubicBezTo>
                <a:cubicBezTo>
                  <a:pt x="18625" y="7679"/>
                  <a:pt x="18447" y="7773"/>
                  <a:pt x="18529" y="7813"/>
                </a:cubicBezTo>
                <a:cubicBezTo>
                  <a:pt x="18647" y="7759"/>
                  <a:pt x="18758" y="7696"/>
                  <a:pt x="18876" y="7640"/>
                </a:cubicBezTo>
                <a:cubicBezTo>
                  <a:pt x="18873" y="7642"/>
                  <a:pt x="18623" y="7813"/>
                  <a:pt x="18653" y="7813"/>
                </a:cubicBezTo>
                <a:cubicBezTo>
                  <a:pt x="18758" y="7735"/>
                  <a:pt x="18797" y="7707"/>
                  <a:pt x="18876" y="7665"/>
                </a:cubicBezTo>
                <a:cubicBezTo>
                  <a:pt x="19043" y="7553"/>
                  <a:pt x="18826" y="7739"/>
                  <a:pt x="18827" y="7739"/>
                </a:cubicBezTo>
                <a:cubicBezTo>
                  <a:pt x="18890" y="7743"/>
                  <a:pt x="19180" y="7594"/>
                  <a:pt x="19199" y="7615"/>
                </a:cubicBezTo>
                <a:cubicBezTo>
                  <a:pt x="19228" y="7646"/>
                  <a:pt x="19107" y="7761"/>
                  <a:pt x="19124" y="7789"/>
                </a:cubicBezTo>
                <a:cubicBezTo>
                  <a:pt x="19149" y="7797"/>
                  <a:pt x="19174" y="7805"/>
                  <a:pt x="19199" y="7813"/>
                </a:cubicBezTo>
                <a:cubicBezTo>
                  <a:pt x="19256" y="7790"/>
                  <a:pt x="19503" y="7647"/>
                  <a:pt x="19546" y="7714"/>
                </a:cubicBezTo>
                <a:cubicBezTo>
                  <a:pt x="19595" y="7791"/>
                  <a:pt x="19475" y="7886"/>
                  <a:pt x="19645" y="7838"/>
                </a:cubicBezTo>
                <a:cubicBezTo>
                  <a:pt x="19714" y="7819"/>
                  <a:pt x="20094" y="7582"/>
                  <a:pt x="19918" y="7739"/>
                </a:cubicBezTo>
                <a:cubicBezTo>
                  <a:pt x="19831" y="7826"/>
                  <a:pt x="19812" y="7850"/>
                  <a:pt x="19745" y="7888"/>
                </a:cubicBezTo>
                <a:cubicBezTo>
                  <a:pt x="19834" y="7852"/>
                  <a:pt x="19893" y="7789"/>
                  <a:pt x="19968" y="7714"/>
                </a:cubicBezTo>
                <a:cubicBezTo>
                  <a:pt x="20015" y="7667"/>
                  <a:pt x="19991" y="7668"/>
                  <a:pt x="20017" y="7615"/>
                </a:cubicBezTo>
                <a:cubicBezTo>
                  <a:pt x="20035" y="7579"/>
                  <a:pt x="20073" y="7524"/>
                  <a:pt x="20092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65200" y="2401920"/>
            <a:ext cx="5929200" cy="965160"/>
          </a:xfrm>
          <a:custGeom>
            <a:avLst/>
            <a:gdLst/>
            <a:ahLst/>
            <a:rect l="l" t="t" r="r" b="b"/>
            <a:pathLst>
              <a:path w="16471" h="2680">
                <a:moveTo>
                  <a:pt x="20017" y="7094"/>
                </a:moveTo>
                <a:cubicBezTo>
                  <a:pt x="20057" y="7081"/>
                  <a:pt x="20214" y="6917"/>
                  <a:pt x="20241" y="6896"/>
                </a:cubicBezTo>
                <a:cubicBezTo>
                  <a:pt x="20406" y="6772"/>
                  <a:pt x="20439" y="6747"/>
                  <a:pt x="20538" y="6672"/>
                </a:cubicBezTo>
              </a:path>
              <a:path w="16471" h="2680">
                <a:moveTo>
                  <a:pt x="4093" y="8756"/>
                </a:moveTo>
                <a:cubicBezTo>
                  <a:pt x="4121" y="8926"/>
                  <a:pt x="4156" y="9107"/>
                  <a:pt x="4192" y="9277"/>
                </a:cubicBezTo>
                <a:cubicBezTo>
                  <a:pt x="4211" y="9334"/>
                  <a:pt x="4220" y="9377"/>
                  <a:pt x="4217" y="9327"/>
                </a:cubicBezTo>
              </a:path>
              <a:path w="16471" h="2680">
                <a:moveTo>
                  <a:pt x="4316" y="8657"/>
                </a:moveTo>
                <a:cubicBezTo>
                  <a:pt x="4229" y="8868"/>
                  <a:pt x="4145" y="9087"/>
                  <a:pt x="4068" y="9302"/>
                </a:cubicBezTo>
                <a:cubicBezTo>
                  <a:pt x="4068" y="9310"/>
                  <a:pt x="4068" y="9319"/>
                  <a:pt x="4068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1840" y="3205080"/>
            <a:ext cx="241200" cy="108000"/>
          </a:xfrm>
          <a:custGeom>
            <a:avLst/>
            <a:gdLst/>
            <a:ahLst/>
            <a:rect l="l" t="t" r="r" b="b"/>
            <a:pathLst>
              <a:path w="671" h="299">
                <a:moveTo>
                  <a:pt x="3894" y="9203"/>
                </a:moveTo>
                <a:cubicBezTo>
                  <a:pt x="4030" y="9067"/>
                  <a:pt x="4222" y="8963"/>
                  <a:pt x="4415" y="8905"/>
                </a:cubicBezTo>
                <a:cubicBezTo>
                  <a:pt x="4432" y="8905"/>
                  <a:pt x="4448" y="8905"/>
                  <a:pt x="4465" y="8905"/>
                </a:cubicBezTo>
              </a:path>
              <a:path w="671" h="299">
                <a:moveTo>
                  <a:pt x="3919" y="8979"/>
                </a:moveTo>
                <a:cubicBezTo>
                  <a:pt x="4086" y="9035"/>
                  <a:pt x="4227" y="9108"/>
                  <a:pt x="4415" y="9128"/>
                </a:cubicBezTo>
                <a:cubicBezTo>
                  <a:pt x="4687" y="9157"/>
                  <a:pt x="4464" y="9120"/>
                  <a:pt x="4564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44840" y="3902040"/>
            <a:ext cx="420480" cy="135000"/>
          </a:xfrm>
          <a:custGeom>
            <a:avLst/>
            <a:gdLst/>
            <a:ahLst/>
            <a:rect l="l" t="t" r="r" b="b"/>
            <a:pathLst>
              <a:path w="1167" h="373">
                <a:moveTo>
                  <a:pt x="7069" y="11038"/>
                </a:moveTo>
                <a:cubicBezTo>
                  <a:pt x="7069" y="11096"/>
                  <a:pt x="7069" y="11154"/>
                  <a:pt x="7069" y="11212"/>
                </a:cubicBezTo>
                <a:cubicBezTo>
                  <a:pt x="7232" y="11171"/>
                  <a:pt x="7374" y="11079"/>
                  <a:pt x="7541" y="11038"/>
                </a:cubicBezTo>
                <a:cubicBezTo>
                  <a:pt x="7703" y="10998"/>
                  <a:pt x="7871" y="10935"/>
                  <a:pt x="8037" y="10914"/>
                </a:cubicBezTo>
                <a:cubicBezTo>
                  <a:pt x="8123" y="10903"/>
                  <a:pt x="8125" y="10921"/>
                  <a:pt x="8161" y="10939"/>
                </a:cubicBezTo>
                <a:cubicBezTo>
                  <a:pt x="8215" y="10966"/>
                  <a:pt x="8169" y="10973"/>
                  <a:pt x="8210" y="11013"/>
                </a:cubicBezTo>
                <a:cubicBezTo>
                  <a:pt x="8218" y="11013"/>
                  <a:pt x="8227" y="11013"/>
                  <a:pt x="8235" y="11013"/>
                </a:cubicBezTo>
                <a:cubicBezTo>
                  <a:pt x="8235" y="10955"/>
                  <a:pt x="8235" y="10898"/>
                  <a:pt x="8235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1760" y="3321000"/>
            <a:ext cx="473040" cy="322200"/>
          </a:xfrm>
          <a:custGeom>
            <a:avLst/>
            <a:gdLst/>
            <a:ahLst/>
            <a:rect l="l" t="t" r="r" b="b"/>
            <a:pathLst>
              <a:path w="1316" h="894">
                <a:moveTo>
                  <a:pt x="7615" y="9723"/>
                </a:moveTo>
                <a:cubicBezTo>
                  <a:pt x="7649" y="9802"/>
                  <a:pt x="7764" y="9925"/>
                  <a:pt x="7764" y="10021"/>
                </a:cubicBezTo>
                <a:cubicBezTo>
                  <a:pt x="7756" y="10013"/>
                  <a:pt x="7747" y="10004"/>
                  <a:pt x="7739" y="9996"/>
                </a:cubicBezTo>
                <a:cubicBezTo>
                  <a:pt x="7692" y="9813"/>
                  <a:pt x="7569" y="9606"/>
                  <a:pt x="7739" y="9500"/>
                </a:cubicBezTo>
                <a:cubicBezTo>
                  <a:pt x="7797" y="9624"/>
                  <a:pt x="7639" y="9867"/>
                  <a:pt x="7739" y="9773"/>
                </a:cubicBezTo>
                <a:cubicBezTo>
                  <a:pt x="7984" y="9542"/>
                  <a:pt x="7978" y="9950"/>
                  <a:pt x="7863" y="10096"/>
                </a:cubicBezTo>
                <a:cubicBezTo>
                  <a:pt x="7727" y="10269"/>
                  <a:pt x="7726" y="9972"/>
                  <a:pt x="7764" y="9897"/>
                </a:cubicBezTo>
              </a:path>
              <a:path w="1316" h="894">
                <a:moveTo>
                  <a:pt x="8260" y="9723"/>
                </a:moveTo>
                <a:cubicBezTo>
                  <a:pt x="8164" y="9617"/>
                  <a:pt x="8051" y="9564"/>
                  <a:pt x="8037" y="9798"/>
                </a:cubicBezTo>
                <a:cubicBezTo>
                  <a:pt x="8059" y="9927"/>
                  <a:pt x="8050" y="9965"/>
                  <a:pt x="8136" y="9996"/>
                </a:cubicBezTo>
                <a:cubicBezTo>
                  <a:pt x="8227" y="9936"/>
                  <a:pt x="8255" y="9899"/>
                  <a:pt x="8235" y="9798"/>
                </a:cubicBezTo>
                <a:cubicBezTo>
                  <a:pt x="8165" y="9555"/>
                  <a:pt x="8230" y="9801"/>
                  <a:pt x="8235" y="9823"/>
                </a:cubicBezTo>
                <a:cubicBezTo>
                  <a:pt x="8442" y="9897"/>
                  <a:pt x="8398" y="9647"/>
                  <a:pt x="8409" y="9475"/>
                </a:cubicBezTo>
                <a:cubicBezTo>
                  <a:pt x="8409" y="9467"/>
                  <a:pt x="8409" y="9459"/>
                  <a:pt x="8409" y="9451"/>
                </a:cubicBezTo>
                <a:cubicBezTo>
                  <a:pt x="8482" y="9495"/>
                  <a:pt x="8742" y="9649"/>
                  <a:pt x="8533" y="9723"/>
                </a:cubicBezTo>
                <a:cubicBezTo>
                  <a:pt x="8500" y="9723"/>
                  <a:pt x="8467" y="9723"/>
                  <a:pt x="8434" y="9723"/>
                </a:cubicBezTo>
                <a:cubicBezTo>
                  <a:pt x="8546" y="9836"/>
                  <a:pt x="8718" y="9663"/>
                  <a:pt x="8756" y="9525"/>
                </a:cubicBezTo>
                <a:cubicBezTo>
                  <a:pt x="8756" y="9356"/>
                  <a:pt x="8769" y="9315"/>
                  <a:pt x="8706" y="9227"/>
                </a:cubicBezTo>
                <a:cubicBezTo>
                  <a:pt x="8630" y="9330"/>
                  <a:pt x="8680" y="9554"/>
                  <a:pt x="8880" y="9500"/>
                </a:cubicBezTo>
                <a:cubicBezTo>
                  <a:pt x="8897" y="9475"/>
                  <a:pt x="8913" y="9451"/>
                  <a:pt x="8930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7040" y="4697280"/>
            <a:ext cx="1911240" cy="588960"/>
          </a:xfrm>
          <a:custGeom>
            <a:avLst/>
            <a:gdLst/>
            <a:ahLst/>
            <a:rect l="l" t="t" r="r" b="b"/>
            <a:pathLst>
              <a:path w="5309" h="1638">
                <a:moveTo>
                  <a:pt x="4713" y="13295"/>
                </a:moveTo>
                <a:cubicBezTo>
                  <a:pt x="4728" y="13621"/>
                  <a:pt x="4814" y="13937"/>
                  <a:pt x="4837" y="14263"/>
                </a:cubicBezTo>
                <a:cubicBezTo>
                  <a:pt x="4846" y="14395"/>
                  <a:pt x="4837" y="14548"/>
                  <a:pt x="4837" y="14684"/>
                </a:cubicBezTo>
                <a:cubicBezTo>
                  <a:pt x="5036" y="14675"/>
                  <a:pt x="5232" y="14652"/>
                  <a:pt x="5432" y="14635"/>
                </a:cubicBezTo>
                <a:cubicBezTo>
                  <a:pt x="5919" y="14594"/>
                  <a:pt x="6408" y="14610"/>
                  <a:pt x="6896" y="14610"/>
                </a:cubicBezTo>
                <a:cubicBezTo>
                  <a:pt x="7264" y="14610"/>
                  <a:pt x="7621" y="14624"/>
                  <a:pt x="7987" y="14610"/>
                </a:cubicBezTo>
                <a:cubicBezTo>
                  <a:pt x="8253" y="14600"/>
                  <a:pt x="8517" y="14576"/>
                  <a:pt x="8781" y="14560"/>
                </a:cubicBezTo>
                <a:cubicBezTo>
                  <a:pt x="8871" y="14555"/>
                  <a:pt x="8888" y="14550"/>
                  <a:pt x="8954" y="14536"/>
                </a:cubicBezTo>
                <a:cubicBezTo>
                  <a:pt x="9132" y="14498"/>
                  <a:pt x="9683" y="14529"/>
                  <a:pt x="9798" y="14436"/>
                </a:cubicBezTo>
                <a:cubicBezTo>
                  <a:pt x="9865" y="14382"/>
                  <a:pt x="9931" y="14148"/>
                  <a:pt x="9971" y="14064"/>
                </a:cubicBezTo>
                <a:cubicBezTo>
                  <a:pt x="10045" y="13909"/>
                  <a:pt x="10036" y="13715"/>
                  <a:pt x="10021" y="13543"/>
                </a:cubicBezTo>
                <a:cubicBezTo>
                  <a:pt x="10009" y="13398"/>
                  <a:pt x="10007" y="13238"/>
                  <a:pt x="9971" y="13097"/>
                </a:cubicBezTo>
                <a:cubicBezTo>
                  <a:pt x="9971" y="13069"/>
                  <a:pt x="9969" y="13058"/>
                  <a:pt x="9947" y="13047"/>
                </a:cubicBezTo>
                <a:cubicBezTo>
                  <a:pt x="9812" y="13084"/>
                  <a:pt x="9668" y="13136"/>
                  <a:pt x="9525" y="13146"/>
                </a:cubicBezTo>
                <a:cubicBezTo>
                  <a:pt x="9317" y="13161"/>
                  <a:pt x="9111" y="13162"/>
                  <a:pt x="8905" y="13196"/>
                </a:cubicBezTo>
                <a:cubicBezTo>
                  <a:pt x="8740" y="13223"/>
                  <a:pt x="8575" y="13263"/>
                  <a:pt x="8409" y="13271"/>
                </a:cubicBezTo>
                <a:cubicBezTo>
                  <a:pt x="8273" y="13278"/>
                  <a:pt x="8146" y="13282"/>
                  <a:pt x="8012" y="13295"/>
                </a:cubicBezTo>
                <a:cubicBezTo>
                  <a:pt x="7863" y="13309"/>
                  <a:pt x="7741" y="13300"/>
                  <a:pt x="7590" y="13295"/>
                </a:cubicBezTo>
                <a:cubicBezTo>
                  <a:pt x="7406" y="13289"/>
                  <a:pt x="7227" y="13283"/>
                  <a:pt x="7045" y="13271"/>
                </a:cubicBezTo>
                <a:cubicBezTo>
                  <a:pt x="6871" y="13260"/>
                  <a:pt x="6697" y="13268"/>
                  <a:pt x="6524" y="13246"/>
                </a:cubicBezTo>
                <a:cubicBezTo>
                  <a:pt x="6332" y="13222"/>
                  <a:pt x="6144" y="13216"/>
                  <a:pt x="5953" y="13196"/>
                </a:cubicBezTo>
                <a:cubicBezTo>
                  <a:pt x="5760" y="13176"/>
                  <a:pt x="5624" y="13208"/>
                  <a:pt x="5432" y="13221"/>
                </a:cubicBezTo>
                <a:cubicBezTo>
                  <a:pt x="5259" y="13233"/>
                  <a:pt x="5003" y="13244"/>
                  <a:pt x="4837" y="13196"/>
                </a:cubicBezTo>
                <a:cubicBezTo>
                  <a:pt x="4809" y="13196"/>
                  <a:pt x="4803" y="13194"/>
                  <a:pt x="4837" y="131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0552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bjective:  Students will find the volume of prism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Find the volume of the pris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2743200"/>
            <a:ext cx="3124080" cy="167652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4114800"/>
            <a:ext cx="2057400" cy="1295280"/>
          </a:xfrm>
          <a:prstGeom prst="cube">
            <a:avLst>
              <a:gd name="adj" fmla="val 6666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4495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2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2666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6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3581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0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769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3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5410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8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4114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666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) l= 5in  w=10in  h=5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4419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2590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5286240"/>
            <a:ext cx="1366560" cy="1366920"/>
          </a:xfrm>
          <a:custGeom>
            <a:avLst/>
            <a:gdLst/>
            <a:ahLst/>
            <a:rect l="l" t="t" r="r" b="b"/>
            <a:pathLst>
              <a:path w="3796" h="3796">
                <a:moveTo>
                  <a:pt x="15453" y="14932"/>
                </a:moveTo>
                <a:cubicBezTo>
                  <a:pt x="15621" y="14909"/>
                  <a:pt x="15780" y="14890"/>
                  <a:pt x="15949" y="14883"/>
                </a:cubicBezTo>
              </a:path>
              <a:path w="3796" h="3796">
                <a:moveTo>
                  <a:pt x="18256" y="14684"/>
                </a:moveTo>
                <a:lnTo>
                  <a:pt x="18256" y="14684"/>
                </a:lnTo>
              </a:path>
              <a:path w="3796" h="3796">
                <a:moveTo>
                  <a:pt x="18504" y="16073"/>
                </a:moveTo>
                <a:cubicBezTo>
                  <a:pt x="18504" y="16120"/>
                  <a:pt x="18522" y="16116"/>
                  <a:pt x="18579" y="16049"/>
                </a:cubicBezTo>
              </a:path>
              <a:path w="3796" h="3796">
                <a:moveTo>
                  <a:pt x="18281" y="16966"/>
                </a:moveTo>
                <a:cubicBezTo>
                  <a:pt x="18296" y="17025"/>
                  <a:pt x="18319" y="17023"/>
                  <a:pt x="18380" y="17066"/>
                </a:cubicBezTo>
              </a:path>
              <a:path w="3796" h="3796">
                <a:moveTo>
                  <a:pt x="19248" y="18455"/>
                </a:moveTo>
                <a:cubicBezTo>
                  <a:pt x="19248" y="18463"/>
                  <a:pt x="19248" y="18471"/>
                  <a:pt x="19248" y="184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59240" y="5081760"/>
            <a:ext cx="233640" cy="401400"/>
          </a:xfrm>
          <a:custGeom>
            <a:avLst/>
            <a:gdLst/>
            <a:ahLst/>
            <a:rect l="l" t="t" r="r" b="b"/>
            <a:pathLst>
              <a:path w="646" h="1117">
                <a:moveTo>
                  <a:pt x="14610" y="14238"/>
                </a:moveTo>
                <a:cubicBezTo>
                  <a:pt x="14741" y="14518"/>
                  <a:pt x="14859" y="14849"/>
                  <a:pt x="14932" y="15156"/>
                </a:cubicBezTo>
                <a:cubicBezTo>
                  <a:pt x="14932" y="15181"/>
                  <a:pt x="14932" y="15205"/>
                  <a:pt x="14932" y="15230"/>
                </a:cubicBezTo>
                <a:cubicBezTo>
                  <a:pt x="14955" y="14927"/>
                  <a:pt x="15013" y="14602"/>
                  <a:pt x="15106" y="14312"/>
                </a:cubicBezTo>
                <a:cubicBezTo>
                  <a:pt x="15178" y="14087"/>
                  <a:pt x="15187" y="14105"/>
                  <a:pt x="15255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0800" y="5045040"/>
            <a:ext cx="1554120" cy="857160"/>
          </a:xfrm>
          <a:custGeom>
            <a:avLst/>
            <a:gdLst/>
            <a:ahLst/>
            <a:rect l="l" t="t" r="r" b="b"/>
            <a:pathLst>
              <a:path w="4317" h="2382">
                <a:moveTo>
                  <a:pt x="15453" y="14684"/>
                </a:moveTo>
                <a:cubicBezTo>
                  <a:pt x="15610" y="14633"/>
                  <a:pt x="15714" y="14594"/>
                  <a:pt x="15875" y="14635"/>
                </a:cubicBezTo>
              </a:path>
              <a:path w="4317" h="2382">
                <a:moveTo>
                  <a:pt x="16446" y="14114"/>
                </a:moveTo>
                <a:cubicBezTo>
                  <a:pt x="16476" y="14394"/>
                  <a:pt x="16508" y="14674"/>
                  <a:pt x="16495" y="14957"/>
                </a:cubicBezTo>
                <a:cubicBezTo>
                  <a:pt x="16491" y="15050"/>
                  <a:pt x="16435" y="15141"/>
                  <a:pt x="16495" y="15180"/>
                </a:cubicBezTo>
              </a:path>
              <a:path w="4317" h="2382">
                <a:moveTo>
                  <a:pt x="16867" y="14660"/>
                </a:moveTo>
                <a:cubicBezTo>
                  <a:pt x="16889" y="14765"/>
                  <a:pt x="16859" y="14806"/>
                  <a:pt x="16942" y="14709"/>
                </a:cubicBezTo>
              </a:path>
              <a:path w="4317" h="2382">
                <a:moveTo>
                  <a:pt x="17214" y="14610"/>
                </a:moveTo>
                <a:cubicBezTo>
                  <a:pt x="17219" y="14648"/>
                  <a:pt x="17265" y="15167"/>
                  <a:pt x="17363" y="15081"/>
                </a:cubicBezTo>
                <a:cubicBezTo>
                  <a:pt x="17426" y="14956"/>
                  <a:pt x="17447" y="14893"/>
                  <a:pt x="17438" y="14784"/>
                </a:cubicBezTo>
                <a:cubicBezTo>
                  <a:pt x="17446" y="14767"/>
                  <a:pt x="17454" y="14751"/>
                  <a:pt x="17462" y="14734"/>
                </a:cubicBezTo>
                <a:cubicBezTo>
                  <a:pt x="17409" y="15008"/>
                  <a:pt x="17438" y="15088"/>
                  <a:pt x="17661" y="15205"/>
                </a:cubicBezTo>
                <a:cubicBezTo>
                  <a:pt x="17756" y="15044"/>
                  <a:pt x="17960" y="14716"/>
                  <a:pt x="17686" y="14585"/>
                </a:cubicBezTo>
                <a:cubicBezTo>
                  <a:pt x="17669" y="14593"/>
                  <a:pt x="17653" y="14602"/>
                  <a:pt x="17636" y="14610"/>
                </a:cubicBezTo>
              </a:path>
              <a:path w="4317" h="2382">
                <a:moveTo>
                  <a:pt x="18504" y="14015"/>
                </a:moveTo>
                <a:cubicBezTo>
                  <a:pt x="18561" y="14369"/>
                  <a:pt x="18647" y="14727"/>
                  <a:pt x="18628" y="15081"/>
                </a:cubicBezTo>
                <a:cubicBezTo>
                  <a:pt x="18628" y="15122"/>
                  <a:pt x="18628" y="15114"/>
                  <a:pt x="18628" y="15032"/>
                </a:cubicBezTo>
                <a:cubicBezTo>
                  <a:pt x="18685" y="14799"/>
                  <a:pt x="18710" y="14686"/>
                  <a:pt x="18852" y="14511"/>
                </a:cubicBezTo>
                <a:cubicBezTo>
                  <a:pt x="18959" y="14660"/>
                  <a:pt x="18888" y="14951"/>
                  <a:pt x="19025" y="15081"/>
                </a:cubicBezTo>
                <a:cubicBezTo>
                  <a:pt x="19112" y="15081"/>
                  <a:pt x="19147" y="15076"/>
                  <a:pt x="19199" y="15032"/>
                </a:cubicBezTo>
              </a:path>
              <a:path w="4317" h="2382">
                <a:moveTo>
                  <a:pt x="15429" y="15925"/>
                </a:moveTo>
                <a:cubicBezTo>
                  <a:pt x="15502" y="15908"/>
                  <a:pt x="15550" y="15900"/>
                  <a:pt x="15627" y="15900"/>
                </a:cubicBezTo>
              </a:path>
              <a:path w="4317" h="2382">
                <a:moveTo>
                  <a:pt x="15280" y="16247"/>
                </a:moveTo>
                <a:cubicBezTo>
                  <a:pt x="15423" y="16208"/>
                  <a:pt x="15560" y="16173"/>
                  <a:pt x="15701" y="16123"/>
                </a:cubicBezTo>
              </a:path>
              <a:path w="4317" h="2382">
                <a:moveTo>
                  <a:pt x="16421" y="15701"/>
                </a:moveTo>
                <a:cubicBezTo>
                  <a:pt x="16438" y="15917"/>
                  <a:pt x="16411" y="16134"/>
                  <a:pt x="16421" y="16346"/>
                </a:cubicBezTo>
                <a:cubicBezTo>
                  <a:pt x="16446" y="16396"/>
                  <a:pt x="16454" y="16413"/>
                  <a:pt x="16470" y="16346"/>
                </a:cubicBezTo>
              </a:path>
              <a:path w="4317" h="2382">
                <a:moveTo>
                  <a:pt x="16718" y="15850"/>
                </a:moveTo>
                <a:cubicBezTo>
                  <a:pt x="16815" y="15802"/>
                  <a:pt x="16845" y="15785"/>
                  <a:pt x="16917" y="15825"/>
                </a:cubicBezTo>
                <a:cubicBezTo>
                  <a:pt x="16931" y="16036"/>
                  <a:pt x="16847" y="16128"/>
                  <a:pt x="16694" y="16272"/>
                </a:cubicBezTo>
                <a:cubicBezTo>
                  <a:pt x="16808" y="16215"/>
                  <a:pt x="16927" y="16141"/>
                  <a:pt x="17041" y="16098"/>
                </a:cubicBezTo>
              </a:path>
              <a:path w="4317" h="2382">
                <a:moveTo>
                  <a:pt x="17338" y="15925"/>
                </a:moveTo>
                <a:cubicBezTo>
                  <a:pt x="17371" y="15936"/>
                  <a:pt x="17363" y="15959"/>
                  <a:pt x="17363" y="15925"/>
                </a:cubicBezTo>
              </a:path>
              <a:path w="4317" h="2382">
                <a:moveTo>
                  <a:pt x="17785" y="15553"/>
                </a:moveTo>
                <a:cubicBezTo>
                  <a:pt x="17841" y="15682"/>
                  <a:pt x="17815" y="15868"/>
                  <a:pt x="17785" y="15999"/>
                </a:cubicBezTo>
                <a:cubicBezTo>
                  <a:pt x="17745" y="16097"/>
                  <a:pt x="17729" y="16111"/>
                  <a:pt x="17735" y="16173"/>
                </a:cubicBezTo>
                <a:cubicBezTo>
                  <a:pt x="17858" y="16233"/>
                  <a:pt x="18017" y="16189"/>
                  <a:pt x="18107" y="16049"/>
                </a:cubicBezTo>
                <a:cubicBezTo>
                  <a:pt x="18128" y="15966"/>
                  <a:pt x="18154" y="15933"/>
                  <a:pt x="18083" y="15949"/>
                </a:cubicBezTo>
                <a:cubicBezTo>
                  <a:pt x="17988" y="16010"/>
                  <a:pt x="17949" y="16055"/>
                  <a:pt x="17934" y="16173"/>
                </a:cubicBezTo>
              </a:path>
              <a:path w="4317" h="2382">
                <a:moveTo>
                  <a:pt x="19075" y="15751"/>
                </a:moveTo>
                <a:cubicBezTo>
                  <a:pt x="19082" y="15917"/>
                  <a:pt x="19100" y="16080"/>
                  <a:pt x="19100" y="16247"/>
                </a:cubicBezTo>
              </a:path>
              <a:path w="4317" h="2382">
                <a:moveTo>
                  <a:pt x="19323" y="15701"/>
                </a:moveTo>
                <a:cubicBezTo>
                  <a:pt x="19279" y="15899"/>
                  <a:pt x="19258" y="15948"/>
                  <a:pt x="19298" y="16073"/>
                </a:cubicBezTo>
                <a:cubicBezTo>
                  <a:pt x="19383" y="16073"/>
                  <a:pt x="19771" y="15902"/>
                  <a:pt x="19546" y="15776"/>
                </a:cubicBezTo>
                <a:cubicBezTo>
                  <a:pt x="19376" y="15776"/>
                  <a:pt x="19309" y="15788"/>
                  <a:pt x="19224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0200" y="6037200"/>
            <a:ext cx="1482840" cy="776520"/>
          </a:xfrm>
          <a:custGeom>
            <a:avLst/>
            <a:gdLst/>
            <a:ahLst/>
            <a:rect l="l" t="t" r="r" b="b"/>
            <a:pathLst>
              <a:path w="4118" h="2159">
                <a:moveTo>
                  <a:pt x="16718" y="16991"/>
                </a:moveTo>
                <a:cubicBezTo>
                  <a:pt x="16700" y="17082"/>
                  <a:pt x="16692" y="17089"/>
                  <a:pt x="16694" y="17140"/>
                </a:cubicBezTo>
                <a:cubicBezTo>
                  <a:pt x="16705" y="17073"/>
                  <a:pt x="16712" y="16960"/>
                  <a:pt x="16793" y="16942"/>
                </a:cubicBezTo>
                <a:cubicBezTo>
                  <a:pt x="16909" y="16917"/>
                  <a:pt x="17046" y="16934"/>
                  <a:pt x="17165" y="16917"/>
                </a:cubicBezTo>
                <a:cubicBezTo>
                  <a:pt x="17141" y="17109"/>
                  <a:pt x="17087" y="17299"/>
                  <a:pt x="17041" y="17487"/>
                </a:cubicBezTo>
                <a:cubicBezTo>
                  <a:pt x="17033" y="17520"/>
                  <a:pt x="17024" y="17554"/>
                  <a:pt x="17016" y="17587"/>
                </a:cubicBezTo>
              </a:path>
              <a:path w="4118" h="2159">
                <a:moveTo>
                  <a:pt x="17338" y="16991"/>
                </a:moveTo>
                <a:cubicBezTo>
                  <a:pt x="17413" y="16966"/>
                  <a:pt x="17437" y="16958"/>
                  <a:pt x="17487" y="16991"/>
                </a:cubicBezTo>
                <a:cubicBezTo>
                  <a:pt x="17567" y="17183"/>
                  <a:pt x="17448" y="17322"/>
                  <a:pt x="17314" y="17487"/>
                </a:cubicBezTo>
                <a:cubicBezTo>
                  <a:pt x="17275" y="17526"/>
                  <a:pt x="17258" y="17528"/>
                  <a:pt x="17264" y="17562"/>
                </a:cubicBezTo>
                <a:cubicBezTo>
                  <a:pt x="17415" y="17546"/>
                  <a:pt x="17558" y="17504"/>
                  <a:pt x="17711" y="17487"/>
                </a:cubicBezTo>
              </a:path>
              <a:path w="4118" h="2159">
                <a:moveTo>
                  <a:pt x="19025" y="16768"/>
                </a:moveTo>
                <a:cubicBezTo>
                  <a:pt x="19017" y="16967"/>
                  <a:pt x="18777" y="17348"/>
                  <a:pt x="18976" y="17363"/>
                </a:cubicBezTo>
                <a:cubicBezTo>
                  <a:pt x="19001" y="17338"/>
                  <a:pt x="19025" y="17314"/>
                  <a:pt x="19050" y="17289"/>
                </a:cubicBezTo>
              </a:path>
              <a:path w="4118" h="2159">
                <a:moveTo>
                  <a:pt x="19323" y="16793"/>
                </a:moveTo>
                <a:cubicBezTo>
                  <a:pt x="19305" y="16979"/>
                  <a:pt x="19299" y="17130"/>
                  <a:pt x="19323" y="17314"/>
                </a:cubicBezTo>
                <a:cubicBezTo>
                  <a:pt x="19512" y="17219"/>
                  <a:pt x="19520" y="17111"/>
                  <a:pt x="19546" y="16917"/>
                </a:cubicBezTo>
                <a:cubicBezTo>
                  <a:pt x="19391" y="16891"/>
                  <a:pt x="19268" y="16878"/>
                  <a:pt x="19124" y="16942"/>
                </a:cubicBezTo>
              </a:path>
              <a:path w="4118" h="2159">
                <a:moveTo>
                  <a:pt x="17388" y="17785"/>
                </a:moveTo>
                <a:cubicBezTo>
                  <a:pt x="17403" y="17877"/>
                  <a:pt x="17408" y="17942"/>
                  <a:pt x="17413" y="18033"/>
                </a:cubicBezTo>
                <a:cubicBezTo>
                  <a:pt x="17542" y="18009"/>
                  <a:pt x="17655" y="17944"/>
                  <a:pt x="17785" y="17909"/>
                </a:cubicBezTo>
                <a:cubicBezTo>
                  <a:pt x="18082" y="17830"/>
                  <a:pt x="18401" y="17809"/>
                  <a:pt x="18703" y="17859"/>
                </a:cubicBezTo>
                <a:cubicBezTo>
                  <a:pt x="18778" y="17871"/>
                  <a:pt x="18864" y="17882"/>
                  <a:pt x="18926" y="17909"/>
                </a:cubicBezTo>
                <a:cubicBezTo>
                  <a:pt x="18919" y="17831"/>
                  <a:pt x="18965" y="17679"/>
                  <a:pt x="19025" y="17562"/>
                </a:cubicBezTo>
                <a:cubicBezTo>
                  <a:pt x="19048" y="17539"/>
                  <a:pt x="19056" y="17535"/>
                  <a:pt x="19050" y="17512"/>
                </a:cubicBezTo>
              </a:path>
              <a:path w="4118" h="2159">
                <a:moveTo>
                  <a:pt x="17363" y="18256"/>
                </a:moveTo>
                <a:cubicBezTo>
                  <a:pt x="17467" y="18222"/>
                  <a:pt x="17575" y="18167"/>
                  <a:pt x="17686" y="18132"/>
                </a:cubicBezTo>
                <a:cubicBezTo>
                  <a:pt x="17711" y="18124"/>
                  <a:pt x="17735" y="18115"/>
                  <a:pt x="17760" y="18107"/>
                </a:cubicBezTo>
                <a:cubicBezTo>
                  <a:pt x="17760" y="18263"/>
                  <a:pt x="17666" y="18429"/>
                  <a:pt x="17686" y="18579"/>
                </a:cubicBezTo>
                <a:cubicBezTo>
                  <a:pt x="17702" y="18595"/>
                  <a:pt x="17719" y="18612"/>
                  <a:pt x="17735" y="18628"/>
                </a:cubicBezTo>
              </a:path>
              <a:path w="4118" h="2159">
                <a:moveTo>
                  <a:pt x="18033" y="18157"/>
                </a:moveTo>
                <a:cubicBezTo>
                  <a:pt x="18232" y="18130"/>
                  <a:pt x="18255" y="18185"/>
                  <a:pt x="18182" y="18380"/>
                </a:cubicBezTo>
                <a:cubicBezTo>
                  <a:pt x="18128" y="18525"/>
                  <a:pt x="18082" y="18590"/>
                  <a:pt x="17983" y="18703"/>
                </a:cubicBezTo>
                <a:cubicBezTo>
                  <a:pt x="18122" y="18651"/>
                  <a:pt x="18264" y="18565"/>
                  <a:pt x="18405" y="18504"/>
                </a:cubicBezTo>
              </a:path>
              <a:path w="4118" h="2159">
                <a:moveTo>
                  <a:pt x="18579" y="18107"/>
                </a:moveTo>
                <a:cubicBezTo>
                  <a:pt x="18488" y="18306"/>
                  <a:pt x="18418" y="18493"/>
                  <a:pt x="18355" y="18703"/>
                </a:cubicBezTo>
                <a:cubicBezTo>
                  <a:pt x="18514" y="18837"/>
                  <a:pt x="18738" y="18580"/>
                  <a:pt x="18827" y="18430"/>
                </a:cubicBezTo>
                <a:cubicBezTo>
                  <a:pt x="18999" y="18141"/>
                  <a:pt x="18714" y="18139"/>
                  <a:pt x="18529" y="18157"/>
                </a:cubicBezTo>
              </a:path>
              <a:path w="4118" h="2159">
                <a:moveTo>
                  <a:pt x="19199" y="18455"/>
                </a:moveTo>
                <a:cubicBezTo>
                  <a:pt x="19199" y="18588"/>
                  <a:pt x="19178" y="18719"/>
                  <a:pt x="19174" y="18852"/>
                </a:cubicBezTo>
                <a:cubicBezTo>
                  <a:pt x="19171" y="18945"/>
                  <a:pt x="19199" y="18768"/>
                  <a:pt x="19224" y="18678"/>
                </a:cubicBezTo>
                <a:cubicBezTo>
                  <a:pt x="19232" y="18650"/>
                  <a:pt x="19257" y="18542"/>
                  <a:pt x="19298" y="18529"/>
                </a:cubicBezTo>
                <a:cubicBezTo>
                  <a:pt x="19485" y="18472"/>
                  <a:pt x="19389" y="18599"/>
                  <a:pt x="19323" y="18678"/>
                </a:cubicBezTo>
              </a:path>
              <a:path w="4118" h="2159">
                <a:moveTo>
                  <a:pt x="19372" y="18355"/>
                </a:moveTo>
                <a:cubicBezTo>
                  <a:pt x="19410" y="18393"/>
                  <a:pt x="19462" y="18455"/>
                  <a:pt x="19472" y="18479"/>
                </a:cubicBezTo>
                <a:cubicBezTo>
                  <a:pt x="19472" y="18487"/>
                  <a:pt x="19472" y="18496"/>
                  <a:pt x="19472" y="18504"/>
                </a:cubicBezTo>
                <a:cubicBezTo>
                  <a:pt x="19472" y="18428"/>
                  <a:pt x="19499" y="18372"/>
                  <a:pt x="19571" y="18331"/>
                </a:cubicBezTo>
                <a:cubicBezTo>
                  <a:pt x="19692" y="18262"/>
                  <a:pt x="19820" y="18306"/>
                  <a:pt x="19869" y="18430"/>
                </a:cubicBezTo>
                <a:cubicBezTo>
                  <a:pt x="19921" y="18562"/>
                  <a:pt x="19893" y="18993"/>
                  <a:pt x="19893" y="18852"/>
                </a:cubicBezTo>
                <a:cubicBezTo>
                  <a:pt x="19893" y="18835"/>
                  <a:pt x="19893" y="18819"/>
                  <a:pt x="19893" y="18802"/>
                </a:cubicBezTo>
              </a:path>
              <a:path w="4118" h="2159">
                <a:moveTo>
                  <a:pt x="19174" y="18554"/>
                </a:moveTo>
                <a:cubicBezTo>
                  <a:pt x="19174" y="18462"/>
                  <a:pt x="19196" y="18434"/>
                  <a:pt x="19273" y="18380"/>
                </a:cubicBezTo>
                <a:cubicBezTo>
                  <a:pt x="19431" y="18269"/>
                  <a:pt x="19442" y="18477"/>
                  <a:pt x="19472" y="18579"/>
                </a:cubicBezTo>
                <a:cubicBezTo>
                  <a:pt x="19501" y="18677"/>
                  <a:pt x="19493" y="18709"/>
                  <a:pt x="19472" y="18802"/>
                </a:cubicBezTo>
                <a:cubicBezTo>
                  <a:pt x="19462" y="18847"/>
                  <a:pt x="19478" y="18836"/>
                  <a:pt x="19447" y="18876"/>
                </a:cubicBezTo>
              </a:path>
              <a:path w="4118" h="2159">
                <a:moveTo>
                  <a:pt x="20117" y="17909"/>
                </a:moveTo>
                <a:cubicBezTo>
                  <a:pt x="20166" y="17917"/>
                  <a:pt x="20201" y="17902"/>
                  <a:pt x="20265" y="17909"/>
                </a:cubicBezTo>
                <a:cubicBezTo>
                  <a:pt x="20254" y="18027"/>
                  <a:pt x="20230" y="18054"/>
                  <a:pt x="20166" y="18157"/>
                </a:cubicBezTo>
                <a:cubicBezTo>
                  <a:pt x="20205" y="18098"/>
                  <a:pt x="20333" y="18136"/>
                  <a:pt x="20290" y="18256"/>
                </a:cubicBezTo>
                <a:cubicBezTo>
                  <a:pt x="20234" y="18410"/>
                  <a:pt x="20138" y="18405"/>
                  <a:pt x="20017" y="18405"/>
                </a:cubicBezTo>
              </a:path>
              <a:path w="4118" h="2159">
                <a:moveTo>
                  <a:pt x="20513" y="18852"/>
                </a:moveTo>
                <a:cubicBezTo>
                  <a:pt x="20594" y="18832"/>
                  <a:pt x="20607" y="18698"/>
                  <a:pt x="20638" y="18628"/>
                </a:cubicBezTo>
                <a:cubicBezTo>
                  <a:pt x="20686" y="18521"/>
                  <a:pt x="20726" y="18417"/>
                  <a:pt x="20762" y="18306"/>
                </a:cubicBezTo>
                <a:cubicBezTo>
                  <a:pt x="20788" y="18226"/>
                  <a:pt x="20804" y="18189"/>
                  <a:pt x="20811" y="18107"/>
                </a:cubicBezTo>
              </a:path>
              <a:path w="4118" h="2159">
                <a:moveTo>
                  <a:pt x="20712" y="18207"/>
                </a:moveTo>
                <a:cubicBezTo>
                  <a:pt x="20734" y="18185"/>
                  <a:pt x="20784" y="18217"/>
                  <a:pt x="20811" y="18058"/>
                </a:cubicBezTo>
                <a:cubicBezTo>
                  <a:pt x="20840" y="17891"/>
                  <a:pt x="20796" y="17795"/>
                  <a:pt x="20662" y="17711"/>
                </a:cubicBezTo>
                <a:cubicBezTo>
                  <a:pt x="20594" y="17668"/>
                  <a:pt x="20532" y="17697"/>
                  <a:pt x="20464" y="17711"/>
                </a:cubicBezTo>
                <a:cubicBezTo>
                  <a:pt x="20355" y="17734"/>
                  <a:pt x="20249" y="17766"/>
                  <a:pt x="20141" y="17785"/>
                </a:cubicBezTo>
                <a:cubicBezTo>
                  <a:pt x="20037" y="17803"/>
                  <a:pt x="19927" y="17819"/>
                  <a:pt x="19819" y="17810"/>
                </a:cubicBezTo>
                <a:cubicBezTo>
                  <a:pt x="19721" y="17802"/>
                  <a:pt x="19620" y="17798"/>
                  <a:pt x="19521" y="17785"/>
                </a:cubicBezTo>
                <a:cubicBezTo>
                  <a:pt x="19357" y="17763"/>
                  <a:pt x="19140" y="17714"/>
                  <a:pt x="18976" y="17735"/>
                </a:cubicBezTo>
                <a:cubicBezTo>
                  <a:pt x="18862" y="17750"/>
                  <a:pt x="18742" y="17768"/>
                  <a:pt x="18628" y="17785"/>
                </a:cubicBezTo>
                <a:cubicBezTo>
                  <a:pt x="18446" y="17812"/>
                  <a:pt x="18264" y="17811"/>
                  <a:pt x="18083" y="17835"/>
                </a:cubicBezTo>
                <a:cubicBezTo>
                  <a:pt x="17931" y="17855"/>
                  <a:pt x="17785" y="17872"/>
                  <a:pt x="17636" y="17909"/>
                </a:cubicBezTo>
                <a:cubicBezTo>
                  <a:pt x="17501" y="17942"/>
                  <a:pt x="17392" y="17961"/>
                  <a:pt x="17264" y="18008"/>
                </a:cubicBezTo>
                <a:cubicBezTo>
                  <a:pt x="17156" y="18047"/>
                  <a:pt x="17081" y="18081"/>
                  <a:pt x="16991" y="18157"/>
                </a:cubicBezTo>
                <a:cubicBezTo>
                  <a:pt x="16926" y="18212"/>
                  <a:pt x="16968" y="18212"/>
                  <a:pt x="16942" y="18281"/>
                </a:cubicBezTo>
                <a:cubicBezTo>
                  <a:pt x="16888" y="18427"/>
                  <a:pt x="16950" y="18534"/>
                  <a:pt x="16991" y="18678"/>
                </a:cubicBezTo>
                <a:cubicBezTo>
                  <a:pt x="17014" y="18760"/>
                  <a:pt x="17028" y="18821"/>
                  <a:pt x="17041" y="18901"/>
                </a:cubicBezTo>
                <a:cubicBezTo>
                  <a:pt x="17041" y="18909"/>
                  <a:pt x="17041" y="18918"/>
                  <a:pt x="17041" y="189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29240" y="2857680"/>
            <a:ext cx="563760" cy="250560"/>
          </a:xfrm>
          <a:custGeom>
            <a:avLst/>
            <a:gdLst/>
            <a:ahLst/>
            <a:rect l="l" t="t" r="r" b="b"/>
            <a:pathLst>
              <a:path w="1564" h="695">
                <a:moveTo>
                  <a:pt x="19422" y="7938"/>
                </a:moveTo>
                <a:cubicBezTo>
                  <a:pt x="18900" y="8164"/>
                  <a:pt x="18358" y="8357"/>
                  <a:pt x="17859" y="8632"/>
                </a:cubicBezTo>
                <a:cubicBezTo>
                  <a:pt x="17900" y="8615"/>
                  <a:pt x="17942" y="8599"/>
                  <a:pt x="17983" y="85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03920" y="2509920"/>
            <a:ext cx="2911320" cy="677880"/>
          </a:xfrm>
          <a:custGeom>
            <a:avLst/>
            <a:gdLst/>
            <a:ahLst/>
            <a:rect l="l" t="t" r="r" b="b"/>
            <a:pathLst>
              <a:path w="8087" h="1886">
                <a:moveTo>
                  <a:pt x="19596" y="7119"/>
                </a:moveTo>
                <a:cubicBezTo>
                  <a:pt x="19616" y="7059"/>
                  <a:pt x="19615" y="7045"/>
                  <a:pt x="19645" y="7020"/>
                </a:cubicBezTo>
                <a:cubicBezTo>
                  <a:pt x="19645" y="7158"/>
                  <a:pt x="19614" y="7282"/>
                  <a:pt x="19596" y="7417"/>
                </a:cubicBezTo>
                <a:cubicBezTo>
                  <a:pt x="19596" y="7486"/>
                  <a:pt x="19605" y="7484"/>
                  <a:pt x="19645" y="7367"/>
                </a:cubicBezTo>
              </a:path>
              <a:path w="8087" h="1886">
                <a:moveTo>
                  <a:pt x="19893" y="6995"/>
                </a:moveTo>
                <a:cubicBezTo>
                  <a:pt x="20016" y="6970"/>
                  <a:pt x="20057" y="6962"/>
                  <a:pt x="20141" y="6970"/>
                </a:cubicBezTo>
                <a:cubicBezTo>
                  <a:pt x="20089" y="7179"/>
                  <a:pt x="19988" y="7281"/>
                  <a:pt x="19819" y="7417"/>
                </a:cubicBezTo>
                <a:cubicBezTo>
                  <a:pt x="19934" y="7398"/>
                  <a:pt x="20050" y="7366"/>
                  <a:pt x="20166" y="7342"/>
                </a:cubicBezTo>
              </a:path>
              <a:path w="8087" h="1886">
                <a:moveTo>
                  <a:pt x="17636" y="7491"/>
                </a:moveTo>
                <a:cubicBezTo>
                  <a:pt x="17365" y="7668"/>
                  <a:pt x="17085" y="7822"/>
                  <a:pt x="16793" y="7962"/>
                </a:cubicBezTo>
                <a:cubicBezTo>
                  <a:pt x="16627" y="8036"/>
                  <a:pt x="16610" y="8042"/>
                  <a:pt x="16520" y="8086"/>
                </a:cubicBezTo>
                <a:cubicBezTo>
                  <a:pt x="16810" y="7980"/>
                  <a:pt x="17092" y="7883"/>
                  <a:pt x="17388" y="7789"/>
                </a:cubicBezTo>
              </a:path>
              <a:path w="8087" h="1886">
                <a:moveTo>
                  <a:pt x="18008" y="7615"/>
                </a:moveTo>
                <a:cubicBezTo>
                  <a:pt x="17542" y="7867"/>
                  <a:pt x="17080" y="8123"/>
                  <a:pt x="16619" y="8384"/>
                </a:cubicBezTo>
                <a:cubicBezTo>
                  <a:pt x="16603" y="8392"/>
                  <a:pt x="16586" y="8401"/>
                  <a:pt x="16570" y="8409"/>
                </a:cubicBezTo>
                <a:cubicBezTo>
                  <a:pt x="17191" y="8144"/>
                  <a:pt x="17811" y="7890"/>
                  <a:pt x="18479" y="7764"/>
                </a:cubicBezTo>
                <a:cubicBezTo>
                  <a:pt x="18689" y="7746"/>
                  <a:pt x="18727" y="7676"/>
                  <a:pt x="18802" y="7764"/>
                </a:cubicBezTo>
                <a:cubicBezTo>
                  <a:pt x="18258" y="7945"/>
                  <a:pt x="17740" y="8095"/>
                  <a:pt x="17239" y="8384"/>
                </a:cubicBezTo>
                <a:cubicBezTo>
                  <a:pt x="16841" y="8614"/>
                  <a:pt x="17722" y="8262"/>
                  <a:pt x="18157" y="8111"/>
                </a:cubicBezTo>
              </a:path>
              <a:path w="8087" h="1886">
                <a:moveTo>
                  <a:pt x="20092" y="7987"/>
                </a:moveTo>
                <a:cubicBezTo>
                  <a:pt x="19645" y="8194"/>
                  <a:pt x="18379" y="8948"/>
                  <a:pt x="18777" y="8657"/>
                </a:cubicBezTo>
                <a:cubicBezTo>
                  <a:pt x="18885" y="8583"/>
                  <a:pt x="18992" y="8508"/>
                  <a:pt x="19100" y="8434"/>
                </a:cubicBezTo>
              </a:path>
              <a:path w="8087" h="1886">
                <a:moveTo>
                  <a:pt x="20513" y="8062"/>
                </a:moveTo>
                <a:cubicBezTo>
                  <a:pt x="20447" y="8096"/>
                  <a:pt x="19222" y="8644"/>
                  <a:pt x="19794" y="8434"/>
                </a:cubicBezTo>
              </a:path>
              <a:path w="8087" h="1886">
                <a:moveTo>
                  <a:pt x="21134" y="7938"/>
                </a:moveTo>
                <a:cubicBezTo>
                  <a:pt x="20855" y="8180"/>
                  <a:pt x="20491" y="8363"/>
                  <a:pt x="20166" y="8558"/>
                </a:cubicBezTo>
                <a:cubicBezTo>
                  <a:pt x="20677" y="8288"/>
                  <a:pt x="21172" y="8039"/>
                  <a:pt x="21729" y="7863"/>
                </a:cubicBezTo>
                <a:cubicBezTo>
                  <a:pt x="21972" y="7807"/>
                  <a:pt x="22124" y="7715"/>
                  <a:pt x="22002" y="7863"/>
                </a:cubicBezTo>
                <a:cubicBezTo>
                  <a:pt x="21598" y="8082"/>
                  <a:pt x="20384" y="8591"/>
                  <a:pt x="20836" y="8508"/>
                </a:cubicBezTo>
                <a:cubicBezTo>
                  <a:pt x="20960" y="8450"/>
                  <a:pt x="21084" y="8392"/>
                  <a:pt x="21208" y="8334"/>
                </a:cubicBezTo>
              </a:path>
              <a:path w="8087" h="1886">
                <a:moveTo>
                  <a:pt x="22299" y="8037"/>
                </a:moveTo>
                <a:cubicBezTo>
                  <a:pt x="21993" y="8176"/>
                  <a:pt x="21550" y="8398"/>
                  <a:pt x="21332" y="8533"/>
                </a:cubicBezTo>
                <a:cubicBezTo>
                  <a:pt x="21762" y="8304"/>
                  <a:pt x="22501" y="7771"/>
                  <a:pt x="23019" y="7863"/>
                </a:cubicBezTo>
                <a:cubicBezTo>
                  <a:pt x="23422" y="7935"/>
                  <a:pt x="22345" y="8310"/>
                  <a:pt x="22002" y="8533"/>
                </a:cubicBezTo>
                <a:cubicBezTo>
                  <a:pt x="22460" y="8303"/>
                  <a:pt x="22878" y="8044"/>
                  <a:pt x="23366" y="7888"/>
                </a:cubicBezTo>
                <a:cubicBezTo>
                  <a:pt x="23416" y="7880"/>
                  <a:pt x="23465" y="7871"/>
                  <a:pt x="23515" y="7863"/>
                </a:cubicBezTo>
                <a:cubicBezTo>
                  <a:pt x="23301" y="7985"/>
                  <a:pt x="22602" y="8237"/>
                  <a:pt x="22547" y="8508"/>
                </a:cubicBezTo>
                <a:cubicBezTo>
                  <a:pt x="22468" y="8901"/>
                  <a:pt x="23778" y="7702"/>
                  <a:pt x="23664" y="8086"/>
                </a:cubicBezTo>
                <a:cubicBezTo>
                  <a:pt x="23587" y="8346"/>
                  <a:pt x="23023" y="8360"/>
                  <a:pt x="22920" y="8632"/>
                </a:cubicBezTo>
                <a:cubicBezTo>
                  <a:pt x="22825" y="8883"/>
                  <a:pt x="23432" y="8488"/>
                  <a:pt x="23688" y="8409"/>
                </a:cubicBezTo>
                <a:cubicBezTo>
                  <a:pt x="24240" y="8223"/>
                  <a:pt x="23315" y="8559"/>
                  <a:pt x="23316" y="8558"/>
                </a:cubicBezTo>
                <a:cubicBezTo>
                  <a:pt x="23589" y="8316"/>
                  <a:pt x="23716" y="8210"/>
                  <a:pt x="23937" y="8062"/>
                </a:cubicBezTo>
              </a:path>
              <a:path w="8087" h="1886">
                <a:moveTo>
                  <a:pt x="24085" y="7764"/>
                </a:moveTo>
                <a:cubicBezTo>
                  <a:pt x="23884" y="7801"/>
                  <a:pt x="23687" y="7836"/>
                  <a:pt x="23490" y="7888"/>
                </a:cubicBezTo>
                <a:cubicBezTo>
                  <a:pt x="23734" y="7788"/>
                  <a:pt x="24410" y="7735"/>
                  <a:pt x="24209" y="7565"/>
                </a:cubicBezTo>
                <a:cubicBezTo>
                  <a:pt x="24074" y="7451"/>
                  <a:pt x="23295" y="7742"/>
                  <a:pt x="23118" y="7764"/>
                </a:cubicBezTo>
                <a:cubicBezTo>
                  <a:pt x="23277" y="7713"/>
                  <a:pt x="24162" y="7414"/>
                  <a:pt x="23540" y="7565"/>
                </a:cubicBezTo>
                <a:cubicBezTo>
                  <a:pt x="23270" y="7630"/>
                  <a:pt x="22060" y="7874"/>
                  <a:pt x="22076" y="7863"/>
                </a:cubicBezTo>
                <a:cubicBezTo>
                  <a:pt x="22358" y="7733"/>
                  <a:pt x="22426" y="7703"/>
                  <a:pt x="22597" y="7615"/>
                </a:cubicBezTo>
              </a:path>
              <a:path w="8087" h="1886">
                <a:moveTo>
                  <a:pt x="21357" y="7987"/>
                </a:moveTo>
                <a:cubicBezTo>
                  <a:pt x="21003" y="7929"/>
                  <a:pt x="21610" y="7781"/>
                  <a:pt x="21828" y="7665"/>
                </a:cubicBezTo>
                <a:cubicBezTo>
                  <a:pt x="21422" y="7776"/>
                  <a:pt x="20513" y="8396"/>
                  <a:pt x="20613" y="7987"/>
                </a:cubicBezTo>
                <a:cubicBezTo>
                  <a:pt x="20634" y="7900"/>
                  <a:pt x="21409" y="7543"/>
                  <a:pt x="21010" y="7665"/>
                </a:cubicBezTo>
                <a:cubicBezTo>
                  <a:pt x="20496" y="7822"/>
                  <a:pt x="20027" y="8056"/>
                  <a:pt x="19496" y="8136"/>
                </a:cubicBezTo>
                <a:cubicBezTo>
                  <a:pt x="19653" y="8037"/>
                  <a:pt x="20466" y="7639"/>
                  <a:pt x="19918" y="7888"/>
                </a:cubicBezTo>
                <a:cubicBezTo>
                  <a:pt x="19793" y="7927"/>
                  <a:pt x="18803" y="8284"/>
                  <a:pt x="19050" y="8111"/>
                </a:cubicBezTo>
                <a:cubicBezTo>
                  <a:pt x="19227" y="7987"/>
                  <a:pt x="19372" y="7892"/>
                  <a:pt x="19546" y="7764"/>
                </a:cubicBezTo>
                <a:cubicBezTo>
                  <a:pt x="19414" y="7811"/>
                  <a:pt x="18453" y="8252"/>
                  <a:pt x="18380" y="8136"/>
                </a:cubicBezTo>
                <a:cubicBezTo>
                  <a:pt x="18375" y="8129"/>
                  <a:pt x="19376" y="7488"/>
                  <a:pt x="19124" y="7590"/>
                </a:cubicBezTo>
                <a:cubicBezTo>
                  <a:pt x="18682" y="7768"/>
                  <a:pt x="18243" y="7981"/>
                  <a:pt x="17810" y="8111"/>
                </a:cubicBezTo>
                <a:cubicBezTo>
                  <a:pt x="18088" y="7948"/>
                  <a:pt x="18367" y="7790"/>
                  <a:pt x="18653" y="7640"/>
                </a:cubicBezTo>
                <a:cubicBezTo>
                  <a:pt x="18195" y="7789"/>
                  <a:pt x="17674" y="8137"/>
                  <a:pt x="17190" y="8161"/>
                </a:cubicBezTo>
                <a:cubicBezTo>
                  <a:pt x="16921" y="8174"/>
                  <a:pt x="17900" y="7701"/>
                  <a:pt x="17686" y="7863"/>
                </a:cubicBezTo>
                <a:cubicBezTo>
                  <a:pt x="17435" y="7984"/>
                  <a:pt x="16712" y="8235"/>
                  <a:pt x="16991" y="8235"/>
                </a:cubicBezTo>
                <a:cubicBezTo>
                  <a:pt x="17301" y="8235"/>
                  <a:pt x="17680" y="8042"/>
                  <a:pt x="17983" y="7962"/>
                </a:cubicBezTo>
                <a:cubicBezTo>
                  <a:pt x="17800" y="8045"/>
                  <a:pt x="17280" y="8168"/>
                  <a:pt x="17165" y="8334"/>
                </a:cubicBezTo>
                <a:cubicBezTo>
                  <a:pt x="16996" y="8578"/>
                  <a:pt x="18128" y="7905"/>
                  <a:pt x="18033" y="8186"/>
                </a:cubicBezTo>
                <a:cubicBezTo>
                  <a:pt x="17973" y="8364"/>
                  <a:pt x="17220" y="8594"/>
                  <a:pt x="17661" y="8483"/>
                </a:cubicBezTo>
                <a:cubicBezTo>
                  <a:pt x="18023" y="8380"/>
                  <a:pt x="18155" y="8343"/>
                  <a:pt x="18405" y="8285"/>
                </a:cubicBezTo>
                <a:cubicBezTo>
                  <a:pt x="18660" y="8387"/>
                  <a:pt x="18034" y="8620"/>
                  <a:pt x="18306" y="8657"/>
                </a:cubicBezTo>
                <a:cubicBezTo>
                  <a:pt x="18709" y="8711"/>
                  <a:pt x="19130" y="8382"/>
                  <a:pt x="19546" y="8434"/>
                </a:cubicBezTo>
                <a:cubicBezTo>
                  <a:pt x="19744" y="8458"/>
                  <a:pt x="19366" y="8628"/>
                  <a:pt x="19174" y="8682"/>
                </a:cubicBezTo>
              </a:path>
              <a:path w="8087" h="1886">
                <a:moveTo>
                  <a:pt x="16594" y="8260"/>
                </a:moveTo>
                <a:cubicBezTo>
                  <a:pt x="16437" y="8335"/>
                  <a:pt x="16330" y="8413"/>
                  <a:pt x="16197" y="8533"/>
                </a:cubicBezTo>
                <a:cubicBezTo>
                  <a:pt x="16379" y="8442"/>
                  <a:pt x="16371" y="8440"/>
                  <a:pt x="16545" y="8334"/>
                </a:cubicBezTo>
                <a:cubicBezTo>
                  <a:pt x="17088" y="8004"/>
                  <a:pt x="16341" y="8616"/>
                  <a:pt x="16222" y="8731"/>
                </a:cubicBezTo>
                <a:cubicBezTo>
                  <a:pt x="16479" y="8606"/>
                  <a:pt x="17069" y="8092"/>
                  <a:pt x="16966" y="8359"/>
                </a:cubicBezTo>
                <a:cubicBezTo>
                  <a:pt x="16912" y="8498"/>
                  <a:pt x="16483" y="8791"/>
                  <a:pt x="16694" y="8731"/>
                </a:cubicBezTo>
                <a:cubicBezTo>
                  <a:pt x="16951" y="8659"/>
                  <a:pt x="17174" y="8481"/>
                  <a:pt x="17438" y="8409"/>
                </a:cubicBezTo>
                <a:cubicBezTo>
                  <a:pt x="17264" y="8547"/>
                  <a:pt x="17290" y="8518"/>
                  <a:pt x="17140" y="8682"/>
                </a:cubicBezTo>
                <a:cubicBezTo>
                  <a:pt x="17234" y="8633"/>
                  <a:pt x="18227" y="8166"/>
                  <a:pt x="17983" y="8409"/>
                </a:cubicBezTo>
                <a:cubicBezTo>
                  <a:pt x="17759" y="8565"/>
                  <a:pt x="17701" y="8605"/>
                  <a:pt x="17562" y="8706"/>
                </a:cubicBezTo>
                <a:cubicBezTo>
                  <a:pt x="17778" y="8628"/>
                  <a:pt x="18499" y="8220"/>
                  <a:pt x="18752" y="8310"/>
                </a:cubicBezTo>
                <a:cubicBezTo>
                  <a:pt x="18979" y="8391"/>
                  <a:pt x="18570" y="8630"/>
                  <a:pt x="18628" y="8632"/>
                </a:cubicBezTo>
                <a:cubicBezTo>
                  <a:pt x="18870" y="8639"/>
                  <a:pt x="19323" y="8396"/>
                  <a:pt x="19571" y="8334"/>
                </a:cubicBezTo>
                <a:cubicBezTo>
                  <a:pt x="19445" y="8498"/>
                  <a:pt x="19225" y="8499"/>
                  <a:pt x="19224" y="8706"/>
                </a:cubicBezTo>
                <a:cubicBezTo>
                  <a:pt x="19223" y="9084"/>
                  <a:pt x="19948" y="8500"/>
                  <a:pt x="20315" y="8409"/>
                </a:cubicBezTo>
                <a:cubicBezTo>
                  <a:pt x="20207" y="8511"/>
                  <a:pt x="19986" y="8735"/>
                  <a:pt x="19844" y="8855"/>
                </a:cubicBezTo>
                <a:cubicBezTo>
                  <a:pt x="20013" y="8792"/>
                  <a:pt x="20955" y="8308"/>
                  <a:pt x="21084" y="8458"/>
                </a:cubicBezTo>
                <a:cubicBezTo>
                  <a:pt x="21223" y="8619"/>
                  <a:pt x="20893" y="8559"/>
                  <a:pt x="20811" y="8756"/>
                </a:cubicBezTo>
                <a:cubicBezTo>
                  <a:pt x="20877" y="8729"/>
                  <a:pt x="21779" y="8347"/>
                  <a:pt x="21779" y="8483"/>
                </a:cubicBezTo>
                <a:cubicBezTo>
                  <a:pt x="21779" y="8603"/>
                  <a:pt x="21089" y="8833"/>
                  <a:pt x="21754" y="8607"/>
                </a:cubicBezTo>
                <a:cubicBezTo>
                  <a:pt x="22092" y="8492"/>
                  <a:pt x="22108" y="8500"/>
                  <a:pt x="22448" y="8434"/>
                </a:cubicBezTo>
                <a:cubicBezTo>
                  <a:pt x="22367" y="8493"/>
                  <a:pt x="21829" y="8775"/>
                  <a:pt x="22200" y="8682"/>
                </a:cubicBezTo>
                <a:cubicBezTo>
                  <a:pt x="22336" y="8648"/>
                  <a:pt x="22868" y="8437"/>
                  <a:pt x="22845" y="8458"/>
                </a:cubicBezTo>
                <a:cubicBezTo>
                  <a:pt x="22616" y="8619"/>
                  <a:pt x="22553" y="8664"/>
                  <a:pt x="22399" y="8756"/>
                </a:cubicBezTo>
                <a:cubicBezTo>
                  <a:pt x="22713" y="8615"/>
                  <a:pt x="23018" y="8436"/>
                  <a:pt x="23366" y="8409"/>
                </a:cubicBezTo>
                <a:cubicBezTo>
                  <a:pt x="23588" y="8392"/>
                  <a:pt x="22907" y="8627"/>
                  <a:pt x="23118" y="8558"/>
                </a:cubicBezTo>
                <a:cubicBezTo>
                  <a:pt x="23185" y="8517"/>
                  <a:pt x="23682" y="8191"/>
                  <a:pt x="23664" y="8186"/>
                </a:cubicBezTo>
                <a:cubicBezTo>
                  <a:pt x="23477" y="8130"/>
                  <a:pt x="23069" y="8554"/>
                  <a:pt x="23316" y="8310"/>
                </a:cubicBezTo>
                <a:cubicBezTo>
                  <a:pt x="23579" y="8142"/>
                  <a:pt x="23660" y="8090"/>
                  <a:pt x="23837" y="7987"/>
                </a:cubicBezTo>
                <a:cubicBezTo>
                  <a:pt x="23770" y="8006"/>
                  <a:pt x="23208" y="8279"/>
                  <a:pt x="23019" y="8235"/>
                </a:cubicBezTo>
                <a:cubicBezTo>
                  <a:pt x="22764" y="8176"/>
                  <a:pt x="23404" y="7925"/>
                  <a:pt x="23589" y="7813"/>
                </a:cubicBezTo>
                <a:cubicBezTo>
                  <a:pt x="23352" y="7860"/>
                  <a:pt x="22092" y="8273"/>
                  <a:pt x="22051" y="8086"/>
                </a:cubicBezTo>
                <a:cubicBezTo>
                  <a:pt x="22309" y="7899"/>
                  <a:pt x="22386" y="7844"/>
                  <a:pt x="22547" y="7714"/>
                </a:cubicBezTo>
                <a:cubicBezTo>
                  <a:pt x="22188" y="7797"/>
                  <a:pt x="21767" y="7914"/>
                  <a:pt x="21382" y="8012"/>
                </a:cubicBezTo>
                <a:cubicBezTo>
                  <a:pt x="21480" y="7851"/>
                  <a:pt x="21759" y="7871"/>
                  <a:pt x="21654" y="7714"/>
                </a:cubicBezTo>
                <a:cubicBezTo>
                  <a:pt x="21564" y="7580"/>
                  <a:pt x="20827" y="8004"/>
                  <a:pt x="20687" y="7987"/>
                </a:cubicBezTo>
                <a:cubicBezTo>
                  <a:pt x="20487" y="7963"/>
                  <a:pt x="20958" y="7760"/>
                  <a:pt x="20762" y="7714"/>
                </a:cubicBezTo>
                <a:cubicBezTo>
                  <a:pt x="20601" y="7778"/>
                  <a:pt x="19911" y="8197"/>
                  <a:pt x="20166" y="7838"/>
                </a:cubicBezTo>
                <a:cubicBezTo>
                  <a:pt x="20191" y="7822"/>
                  <a:pt x="20216" y="7805"/>
                  <a:pt x="20241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bjective:  Students will find the volume of prisms.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Use the volume formula to find the missing dimen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EX2.) Volume = 288 cubic 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height = 12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width= 8in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What is the lengt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V=lw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288 = l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●8●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288 = l●9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l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 = 288   9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l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 = 3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438280" y="5791320"/>
          <a:ext cx="25416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5791320"/>
                    <a:ext cx="2541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759040" y="5072040"/>
            <a:ext cx="384120" cy="125280"/>
          </a:xfrm>
          <a:custGeom>
            <a:avLst/>
            <a:gdLst/>
            <a:ahLst/>
            <a:rect l="l" t="t" r="r" b="b"/>
            <a:pathLst>
              <a:path w="1067" h="348">
                <a:moveTo>
                  <a:pt x="7665" y="14188"/>
                </a:moveTo>
                <a:cubicBezTo>
                  <a:pt x="7677" y="14273"/>
                  <a:pt x="7689" y="14349"/>
                  <a:pt x="7689" y="14436"/>
                </a:cubicBezTo>
                <a:cubicBezTo>
                  <a:pt x="7867" y="14386"/>
                  <a:pt x="8015" y="14325"/>
                  <a:pt x="8210" y="14312"/>
                </a:cubicBezTo>
                <a:cubicBezTo>
                  <a:pt x="8381" y="14300"/>
                  <a:pt x="8540" y="14326"/>
                  <a:pt x="8706" y="14337"/>
                </a:cubicBezTo>
                <a:cubicBezTo>
                  <a:pt x="8714" y="14337"/>
                  <a:pt x="8723" y="14337"/>
                  <a:pt x="8731" y="14337"/>
                </a:cubicBezTo>
                <a:cubicBezTo>
                  <a:pt x="8719" y="14245"/>
                  <a:pt x="8748" y="14180"/>
                  <a:pt x="8682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78080" y="3894120"/>
            <a:ext cx="777960" cy="588960"/>
          </a:xfrm>
          <a:custGeom>
            <a:avLst/>
            <a:gdLst/>
            <a:ahLst/>
            <a:rect l="l" t="t" r="r" b="b"/>
            <a:pathLst>
              <a:path w="2159" h="1638">
                <a:moveTo>
                  <a:pt x="9054" y="11187"/>
                </a:moveTo>
                <a:cubicBezTo>
                  <a:pt x="9035" y="11303"/>
                  <a:pt x="9037" y="11372"/>
                  <a:pt x="9004" y="11485"/>
                </a:cubicBezTo>
                <a:cubicBezTo>
                  <a:pt x="8963" y="11627"/>
                  <a:pt x="8883" y="11815"/>
                  <a:pt x="8830" y="11956"/>
                </a:cubicBezTo>
                <a:cubicBezTo>
                  <a:pt x="8910" y="11876"/>
                  <a:pt x="9020" y="11845"/>
                  <a:pt x="9153" y="11807"/>
                </a:cubicBezTo>
                <a:cubicBezTo>
                  <a:pt x="9575" y="11688"/>
                  <a:pt x="10055" y="11675"/>
                  <a:pt x="10492" y="11683"/>
                </a:cubicBezTo>
                <a:cubicBezTo>
                  <a:pt x="10687" y="11703"/>
                  <a:pt x="10725" y="11682"/>
                  <a:pt x="10815" y="11757"/>
                </a:cubicBezTo>
                <a:cubicBezTo>
                  <a:pt x="10815" y="11549"/>
                  <a:pt x="10819" y="11371"/>
                  <a:pt x="10864" y="11162"/>
                </a:cubicBezTo>
                <a:cubicBezTo>
                  <a:pt x="10881" y="11086"/>
                  <a:pt x="10962" y="10879"/>
                  <a:pt x="10988" y="10815"/>
                </a:cubicBezTo>
                <a:cubicBezTo>
                  <a:pt x="10771" y="10880"/>
                  <a:pt x="10550" y="10958"/>
                  <a:pt x="10319" y="10988"/>
                </a:cubicBezTo>
                <a:cubicBezTo>
                  <a:pt x="10073" y="11020"/>
                  <a:pt x="9738" y="10946"/>
                  <a:pt x="9500" y="11013"/>
                </a:cubicBezTo>
                <a:cubicBezTo>
                  <a:pt x="9424" y="11034"/>
                  <a:pt x="9359" y="11087"/>
                  <a:pt x="9277" y="11112"/>
                </a:cubicBezTo>
                <a:cubicBezTo>
                  <a:pt x="9197" y="11137"/>
                  <a:pt x="9130" y="11165"/>
                  <a:pt x="9054" y="11187"/>
                </a:cubicBezTo>
                <a:cubicBezTo>
                  <a:pt x="9062" y="11187"/>
                  <a:pt x="9071" y="11187"/>
                  <a:pt x="9079" y="11187"/>
                </a:cubicBezTo>
              </a:path>
              <a:path w="2159" h="1638">
                <a:moveTo>
                  <a:pt x="8930" y="11981"/>
                </a:moveTo>
                <a:cubicBezTo>
                  <a:pt x="8891" y="11955"/>
                  <a:pt x="8878" y="11955"/>
                  <a:pt x="8830" y="11931"/>
                </a:cubicBezTo>
                <a:cubicBezTo>
                  <a:pt x="8867" y="12099"/>
                  <a:pt x="8898" y="12253"/>
                  <a:pt x="8905" y="12427"/>
                </a:cubicBezTo>
                <a:cubicBezTo>
                  <a:pt x="8905" y="12435"/>
                  <a:pt x="8905" y="12444"/>
                  <a:pt x="8905" y="12452"/>
                </a:cubicBezTo>
                <a:cubicBezTo>
                  <a:pt x="9009" y="12440"/>
                  <a:pt x="9097" y="12399"/>
                  <a:pt x="9203" y="12378"/>
                </a:cubicBezTo>
                <a:cubicBezTo>
                  <a:pt x="9544" y="12309"/>
                  <a:pt x="9832" y="12313"/>
                  <a:pt x="10170" y="12353"/>
                </a:cubicBezTo>
                <a:cubicBezTo>
                  <a:pt x="10223" y="12359"/>
                  <a:pt x="10223" y="12341"/>
                  <a:pt x="10244" y="12328"/>
                </a:cubicBezTo>
              </a:path>
              <a:path w="2159" h="1638">
                <a:moveTo>
                  <a:pt x="10616" y="11633"/>
                </a:moveTo>
                <a:cubicBezTo>
                  <a:pt x="10713" y="11654"/>
                  <a:pt x="10768" y="11967"/>
                  <a:pt x="10790" y="12105"/>
                </a:cubicBezTo>
                <a:cubicBezTo>
                  <a:pt x="10790" y="12179"/>
                  <a:pt x="10790" y="12188"/>
                  <a:pt x="10790" y="12229"/>
                </a:cubicBezTo>
                <a:cubicBezTo>
                  <a:pt x="10773" y="12240"/>
                  <a:pt x="10686" y="12263"/>
                  <a:pt x="10616" y="12278"/>
                </a:cubicBezTo>
                <a:cubicBezTo>
                  <a:pt x="10452" y="12313"/>
                  <a:pt x="10309" y="12278"/>
                  <a:pt x="10145" y="12278"/>
                </a:cubicBezTo>
              </a:path>
              <a:path w="2159" h="1638">
                <a:moveTo>
                  <a:pt x="9004" y="12378"/>
                </a:moveTo>
                <a:cubicBezTo>
                  <a:pt x="9004" y="12394"/>
                  <a:pt x="9004" y="12411"/>
                  <a:pt x="9004" y="12427"/>
                </a:cubicBezTo>
                <a:cubicBezTo>
                  <a:pt x="9152" y="12354"/>
                  <a:pt x="9256" y="12112"/>
                  <a:pt x="9351" y="11981"/>
                </a:cubicBezTo>
                <a:cubicBezTo>
                  <a:pt x="9384" y="11940"/>
                  <a:pt x="9418" y="11898"/>
                  <a:pt x="9451" y="11857"/>
                </a:cubicBezTo>
              </a:path>
              <a:path w="2159" h="1638">
                <a:moveTo>
                  <a:pt x="9203" y="11212"/>
                </a:moveTo>
                <a:cubicBezTo>
                  <a:pt x="9248" y="11072"/>
                  <a:pt x="9299" y="11421"/>
                  <a:pt x="9351" y="11559"/>
                </a:cubicBezTo>
                <a:cubicBezTo>
                  <a:pt x="9351" y="11559"/>
                  <a:pt x="9497" y="12012"/>
                  <a:pt x="9525" y="11956"/>
                </a:cubicBezTo>
              </a:path>
              <a:path w="2159" h="1638">
                <a:moveTo>
                  <a:pt x="9500" y="11956"/>
                </a:moveTo>
                <a:cubicBezTo>
                  <a:pt x="9674" y="11906"/>
                  <a:pt x="9803" y="11843"/>
                  <a:pt x="9996" y="11832"/>
                </a:cubicBezTo>
                <a:cubicBezTo>
                  <a:pt x="10202" y="11820"/>
                  <a:pt x="10410" y="11816"/>
                  <a:pt x="10616" y="11807"/>
                </a:cubicBezTo>
              </a:path>
              <a:path w="2159" h="1638">
                <a:moveTo>
                  <a:pt x="9451" y="11956"/>
                </a:moveTo>
                <a:cubicBezTo>
                  <a:pt x="9417" y="11997"/>
                  <a:pt x="9191" y="12308"/>
                  <a:pt x="9327" y="12179"/>
                </a:cubicBezTo>
                <a:cubicBezTo>
                  <a:pt x="9376" y="12133"/>
                  <a:pt x="9843" y="11660"/>
                  <a:pt x="9624" y="11981"/>
                </a:cubicBezTo>
                <a:cubicBezTo>
                  <a:pt x="9454" y="12231"/>
                  <a:pt x="9289" y="12421"/>
                  <a:pt x="9649" y="12055"/>
                </a:cubicBezTo>
                <a:cubicBezTo>
                  <a:pt x="9715" y="11989"/>
                  <a:pt x="9781" y="11923"/>
                  <a:pt x="9847" y="11857"/>
                </a:cubicBezTo>
                <a:cubicBezTo>
                  <a:pt x="10185" y="11807"/>
                  <a:pt x="9439" y="12142"/>
                  <a:pt x="9575" y="12278"/>
                </a:cubicBezTo>
                <a:cubicBezTo>
                  <a:pt x="9617" y="12321"/>
                  <a:pt x="10085" y="11860"/>
                  <a:pt x="10145" y="11807"/>
                </a:cubicBezTo>
                <a:cubicBezTo>
                  <a:pt x="10145" y="11799"/>
                  <a:pt x="10145" y="11790"/>
                  <a:pt x="10145" y="11782"/>
                </a:cubicBezTo>
                <a:cubicBezTo>
                  <a:pt x="10072" y="11853"/>
                  <a:pt x="9570" y="12338"/>
                  <a:pt x="9748" y="12204"/>
                </a:cubicBezTo>
                <a:cubicBezTo>
                  <a:pt x="9934" y="12064"/>
                  <a:pt x="10118" y="11908"/>
                  <a:pt x="10294" y="11757"/>
                </a:cubicBezTo>
                <a:cubicBezTo>
                  <a:pt x="10222" y="11836"/>
                  <a:pt x="9623" y="12455"/>
                  <a:pt x="9947" y="12179"/>
                </a:cubicBezTo>
                <a:cubicBezTo>
                  <a:pt x="10165" y="11983"/>
                  <a:pt x="10215" y="11932"/>
                  <a:pt x="10368" y="11832"/>
                </a:cubicBezTo>
                <a:cubicBezTo>
                  <a:pt x="10327" y="11891"/>
                  <a:pt x="9839" y="12343"/>
                  <a:pt x="10071" y="12179"/>
                </a:cubicBezTo>
                <a:cubicBezTo>
                  <a:pt x="10178" y="12104"/>
                  <a:pt x="10685" y="11690"/>
                  <a:pt x="10294" y="12105"/>
                </a:cubicBezTo>
                <a:cubicBezTo>
                  <a:pt x="10108" y="12303"/>
                  <a:pt x="10536" y="12002"/>
                  <a:pt x="10641" y="11956"/>
                </a:cubicBezTo>
                <a:cubicBezTo>
                  <a:pt x="10596" y="12024"/>
                  <a:pt x="10390" y="12267"/>
                  <a:pt x="10492" y="12204"/>
                </a:cubicBezTo>
                <a:cubicBezTo>
                  <a:pt x="10661" y="12100"/>
                  <a:pt x="10798" y="12011"/>
                  <a:pt x="10592" y="12229"/>
                </a:cubicBezTo>
                <a:cubicBezTo>
                  <a:pt x="10524" y="12301"/>
                  <a:pt x="10783" y="12128"/>
                  <a:pt x="10790" y="12129"/>
                </a:cubicBezTo>
                <a:cubicBezTo>
                  <a:pt x="10760" y="12218"/>
                  <a:pt x="10743" y="12255"/>
                  <a:pt x="10691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1840" y="3840120"/>
            <a:ext cx="660240" cy="204840"/>
          </a:xfrm>
          <a:custGeom>
            <a:avLst/>
            <a:gdLst/>
            <a:ahLst/>
            <a:rect l="l" t="t" r="r" b="b"/>
            <a:pathLst>
              <a:path w="1837" h="572">
                <a:moveTo>
                  <a:pt x="16892" y="11237"/>
                </a:moveTo>
                <a:cubicBezTo>
                  <a:pt x="17010" y="11211"/>
                  <a:pt x="17119" y="11194"/>
                  <a:pt x="17239" y="11187"/>
                </a:cubicBezTo>
              </a:path>
              <a:path w="1837" h="572">
                <a:moveTo>
                  <a:pt x="18728" y="10666"/>
                </a:moveTo>
                <a:cubicBezTo>
                  <a:pt x="18728" y="10674"/>
                  <a:pt x="18728" y="10683"/>
                  <a:pt x="18728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84920" y="3795840"/>
            <a:ext cx="1125360" cy="374400"/>
          </a:xfrm>
          <a:custGeom>
            <a:avLst/>
            <a:gdLst/>
            <a:ahLst/>
            <a:rect l="l" t="t" r="r" b="b"/>
            <a:pathLst>
              <a:path w="3127" h="1043">
                <a:moveTo>
                  <a:pt x="16644" y="10542"/>
                </a:moveTo>
                <a:cubicBezTo>
                  <a:pt x="16644" y="10909"/>
                  <a:pt x="16419" y="11135"/>
                  <a:pt x="16346" y="11485"/>
                </a:cubicBezTo>
                <a:cubicBezTo>
                  <a:pt x="16296" y="11724"/>
                  <a:pt x="16761" y="11490"/>
                  <a:pt x="16842" y="11460"/>
                </a:cubicBezTo>
              </a:path>
              <a:path w="3127" h="1043">
                <a:moveTo>
                  <a:pt x="17041" y="11013"/>
                </a:moveTo>
                <a:cubicBezTo>
                  <a:pt x="17098" y="11005"/>
                  <a:pt x="17331" y="10922"/>
                  <a:pt x="17363" y="10964"/>
                </a:cubicBezTo>
                <a:cubicBezTo>
                  <a:pt x="17355" y="10980"/>
                  <a:pt x="17346" y="10997"/>
                  <a:pt x="17338" y="11013"/>
                </a:cubicBezTo>
              </a:path>
              <a:path w="3127" h="1043">
                <a:moveTo>
                  <a:pt x="17934" y="10790"/>
                </a:moveTo>
                <a:cubicBezTo>
                  <a:pt x="17978" y="10769"/>
                  <a:pt x="18359" y="10569"/>
                  <a:pt x="18281" y="10790"/>
                </a:cubicBezTo>
                <a:cubicBezTo>
                  <a:pt x="18175" y="10923"/>
                  <a:pt x="18133" y="10972"/>
                  <a:pt x="18033" y="11038"/>
                </a:cubicBezTo>
                <a:cubicBezTo>
                  <a:pt x="18008" y="11046"/>
                  <a:pt x="17984" y="11055"/>
                  <a:pt x="17959" y="11063"/>
                </a:cubicBezTo>
                <a:cubicBezTo>
                  <a:pt x="18083" y="11047"/>
                  <a:pt x="18354" y="11065"/>
                  <a:pt x="18207" y="11286"/>
                </a:cubicBezTo>
                <a:cubicBezTo>
                  <a:pt x="18135" y="11394"/>
                  <a:pt x="17815" y="11504"/>
                  <a:pt x="17711" y="11410"/>
                </a:cubicBezTo>
                <a:cubicBezTo>
                  <a:pt x="17711" y="11402"/>
                  <a:pt x="17711" y="11393"/>
                  <a:pt x="17711" y="11385"/>
                </a:cubicBezTo>
              </a:path>
              <a:path w="3127" h="1043">
                <a:moveTo>
                  <a:pt x="18653" y="11063"/>
                </a:moveTo>
                <a:cubicBezTo>
                  <a:pt x="18653" y="11173"/>
                  <a:pt x="18613" y="11274"/>
                  <a:pt x="18628" y="11385"/>
                </a:cubicBezTo>
                <a:cubicBezTo>
                  <a:pt x="18636" y="11402"/>
                  <a:pt x="18645" y="11418"/>
                  <a:pt x="18653" y="11435"/>
                </a:cubicBezTo>
                <a:cubicBezTo>
                  <a:pt x="18802" y="11368"/>
                  <a:pt x="18868" y="11091"/>
                  <a:pt x="19025" y="11137"/>
                </a:cubicBezTo>
                <a:cubicBezTo>
                  <a:pt x="19048" y="11144"/>
                  <a:pt x="18980" y="11449"/>
                  <a:pt x="18976" y="11485"/>
                </a:cubicBezTo>
                <a:cubicBezTo>
                  <a:pt x="18991" y="11289"/>
                  <a:pt x="19014" y="11197"/>
                  <a:pt x="19149" y="11063"/>
                </a:cubicBezTo>
                <a:cubicBezTo>
                  <a:pt x="19223" y="11178"/>
                  <a:pt x="19169" y="11368"/>
                  <a:pt x="19248" y="11460"/>
                </a:cubicBezTo>
                <a:cubicBezTo>
                  <a:pt x="19320" y="11544"/>
                  <a:pt x="19462" y="11274"/>
                  <a:pt x="19472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bjective:  Students will find the volume of prisms.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inding Volume of other Pris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lume = area of the base X he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3162240" cy="2133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670120" y="2705040"/>
            <a:ext cx="2241720" cy="652680"/>
          </a:xfrm>
          <a:custGeom>
            <a:avLst/>
            <a:gdLst/>
            <a:ahLst/>
            <a:rect l="l" t="t" r="r" b="b"/>
            <a:pathLst>
              <a:path w="6227" h="1812">
                <a:moveTo>
                  <a:pt x="7417" y="7913"/>
                </a:moveTo>
                <a:cubicBezTo>
                  <a:pt x="7512" y="7897"/>
                  <a:pt x="7618" y="7868"/>
                  <a:pt x="7714" y="7863"/>
                </a:cubicBezTo>
                <a:cubicBezTo>
                  <a:pt x="8070" y="7843"/>
                  <a:pt x="8426" y="7844"/>
                  <a:pt x="8781" y="7813"/>
                </a:cubicBezTo>
                <a:cubicBezTo>
                  <a:pt x="9065" y="7789"/>
                  <a:pt x="9344" y="7742"/>
                  <a:pt x="9624" y="7714"/>
                </a:cubicBezTo>
                <a:cubicBezTo>
                  <a:pt x="9931" y="7683"/>
                  <a:pt x="10234" y="7607"/>
                  <a:pt x="10542" y="7590"/>
                </a:cubicBezTo>
                <a:cubicBezTo>
                  <a:pt x="10872" y="7572"/>
                  <a:pt x="11204" y="7532"/>
                  <a:pt x="11534" y="7516"/>
                </a:cubicBezTo>
                <a:cubicBezTo>
                  <a:pt x="11769" y="7505"/>
                  <a:pt x="12049" y="7494"/>
                  <a:pt x="12278" y="7565"/>
                </a:cubicBezTo>
                <a:cubicBezTo>
                  <a:pt x="12375" y="7595"/>
                  <a:pt x="12456" y="7630"/>
                  <a:pt x="12551" y="7665"/>
                </a:cubicBezTo>
                <a:cubicBezTo>
                  <a:pt x="12715" y="7725"/>
                  <a:pt x="12902" y="7781"/>
                  <a:pt x="13072" y="7813"/>
                </a:cubicBezTo>
                <a:cubicBezTo>
                  <a:pt x="13262" y="7849"/>
                  <a:pt x="13454" y="7873"/>
                  <a:pt x="13643" y="7913"/>
                </a:cubicBezTo>
              </a:path>
              <a:path w="6227" h="1812">
                <a:moveTo>
                  <a:pt x="8111" y="8186"/>
                </a:moveTo>
                <a:cubicBezTo>
                  <a:pt x="8063" y="8201"/>
                  <a:pt x="8127" y="8366"/>
                  <a:pt x="8136" y="8409"/>
                </a:cubicBezTo>
                <a:cubicBezTo>
                  <a:pt x="8156" y="8510"/>
                  <a:pt x="8154" y="8530"/>
                  <a:pt x="8186" y="8582"/>
                </a:cubicBezTo>
                <a:cubicBezTo>
                  <a:pt x="8186" y="8471"/>
                  <a:pt x="8215" y="8351"/>
                  <a:pt x="8334" y="8310"/>
                </a:cubicBezTo>
                <a:cubicBezTo>
                  <a:pt x="8359" y="8318"/>
                  <a:pt x="8384" y="8326"/>
                  <a:pt x="8409" y="8334"/>
                </a:cubicBezTo>
                <a:cubicBezTo>
                  <a:pt x="8416" y="8475"/>
                  <a:pt x="8420" y="8736"/>
                  <a:pt x="8186" y="8706"/>
                </a:cubicBezTo>
                <a:cubicBezTo>
                  <a:pt x="8094" y="8694"/>
                  <a:pt x="8177" y="8599"/>
                  <a:pt x="8260" y="8558"/>
                </a:cubicBezTo>
              </a:path>
              <a:path w="6227" h="1812">
                <a:moveTo>
                  <a:pt x="8483" y="8136"/>
                </a:moveTo>
                <a:cubicBezTo>
                  <a:pt x="8533" y="8273"/>
                  <a:pt x="8567" y="8389"/>
                  <a:pt x="8582" y="8533"/>
                </a:cubicBezTo>
                <a:cubicBezTo>
                  <a:pt x="8582" y="8457"/>
                  <a:pt x="8532" y="8311"/>
                  <a:pt x="8632" y="8285"/>
                </a:cubicBezTo>
                <a:cubicBezTo>
                  <a:pt x="8788" y="8244"/>
                  <a:pt x="8859" y="8528"/>
                  <a:pt x="8880" y="8632"/>
                </a:cubicBezTo>
              </a:path>
              <a:path w="6227" h="1812">
                <a:moveTo>
                  <a:pt x="7938" y="8954"/>
                </a:moveTo>
                <a:cubicBezTo>
                  <a:pt x="8169" y="8797"/>
                  <a:pt x="8442" y="8630"/>
                  <a:pt x="8731" y="8607"/>
                </a:cubicBezTo>
                <a:cubicBezTo>
                  <a:pt x="8805" y="8626"/>
                  <a:pt x="8812" y="8634"/>
                  <a:pt x="8855" y="8632"/>
                </a:cubicBezTo>
              </a:path>
              <a:path w="6227" h="1812">
                <a:moveTo>
                  <a:pt x="8384" y="8954"/>
                </a:moveTo>
                <a:cubicBezTo>
                  <a:pt x="8489" y="8905"/>
                  <a:pt x="8570" y="8871"/>
                  <a:pt x="8682" y="8855"/>
                </a:cubicBezTo>
                <a:cubicBezTo>
                  <a:pt x="8656" y="9053"/>
                  <a:pt x="8560" y="9160"/>
                  <a:pt x="8458" y="9327"/>
                </a:cubicBezTo>
                <a:cubicBezTo>
                  <a:pt x="8575" y="9288"/>
                  <a:pt x="8668" y="9184"/>
                  <a:pt x="8781" y="9128"/>
                </a:cubicBezTo>
                <a:cubicBezTo>
                  <a:pt x="8806" y="9128"/>
                  <a:pt x="8814" y="9128"/>
                  <a:pt x="8830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00160" y="4491000"/>
            <a:ext cx="992160" cy="563760"/>
          </a:xfrm>
          <a:custGeom>
            <a:avLst/>
            <a:gdLst/>
            <a:ahLst/>
            <a:rect l="l" t="t" r="r" b="b"/>
            <a:pathLst>
              <a:path w="2755" h="1563">
                <a:moveTo>
                  <a:pt x="5556" y="13891"/>
                </a:moveTo>
                <a:cubicBezTo>
                  <a:pt x="5821" y="13421"/>
                  <a:pt x="6113" y="13021"/>
                  <a:pt x="6449" y="12601"/>
                </a:cubicBezTo>
                <a:cubicBezTo>
                  <a:pt x="6619" y="12389"/>
                  <a:pt x="6157" y="12823"/>
                  <a:pt x="6003" y="13047"/>
                </a:cubicBezTo>
                <a:cubicBezTo>
                  <a:pt x="5830" y="13298"/>
                  <a:pt x="5704" y="13589"/>
                  <a:pt x="5581" y="13866"/>
                </a:cubicBezTo>
                <a:cubicBezTo>
                  <a:pt x="5791" y="13438"/>
                  <a:pt x="5988" y="13068"/>
                  <a:pt x="6300" y="12700"/>
                </a:cubicBezTo>
                <a:cubicBezTo>
                  <a:pt x="6375" y="12626"/>
                  <a:pt x="6449" y="12551"/>
                  <a:pt x="6524" y="12477"/>
                </a:cubicBezTo>
                <a:cubicBezTo>
                  <a:pt x="6593" y="12617"/>
                  <a:pt x="6055" y="13314"/>
                  <a:pt x="5928" y="13543"/>
                </a:cubicBezTo>
                <a:cubicBezTo>
                  <a:pt x="5557" y="14209"/>
                  <a:pt x="5750" y="13995"/>
                  <a:pt x="6102" y="13543"/>
                </a:cubicBezTo>
                <a:cubicBezTo>
                  <a:pt x="6358" y="13215"/>
                  <a:pt x="6580" y="12933"/>
                  <a:pt x="6896" y="12675"/>
                </a:cubicBezTo>
                <a:cubicBezTo>
                  <a:pt x="6668" y="13110"/>
                  <a:pt x="6405" y="13504"/>
                  <a:pt x="6102" y="13891"/>
                </a:cubicBezTo>
                <a:cubicBezTo>
                  <a:pt x="6150" y="13812"/>
                  <a:pt x="6795" y="13009"/>
                  <a:pt x="6821" y="13097"/>
                </a:cubicBezTo>
                <a:cubicBezTo>
                  <a:pt x="6888" y="13328"/>
                  <a:pt x="6549" y="13766"/>
                  <a:pt x="6449" y="13965"/>
                </a:cubicBezTo>
                <a:cubicBezTo>
                  <a:pt x="6660" y="13729"/>
                  <a:pt x="6936" y="13261"/>
                  <a:pt x="7243" y="13146"/>
                </a:cubicBezTo>
                <a:cubicBezTo>
                  <a:pt x="7493" y="13052"/>
                  <a:pt x="7021" y="13630"/>
                  <a:pt x="6896" y="13866"/>
                </a:cubicBezTo>
                <a:cubicBezTo>
                  <a:pt x="6935" y="13833"/>
                  <a:pt x="7504" y="13228"/>
                  <a:pt x="7689" y="13246"/>
                </a:cubicBezTo>
                <a:cubicBezTo>
                  <a:pt x="7888" y="13265"/>
                  <a:pt x="7351" y="13890"/>
                  <a:pt x="7491" y="13866"/>
                </a:cubicBezTo>
                <a:cubicBezTo>
                  <a:pt x="7491" y="13866"/>
                  <a:pt x="8362" y="13201"/>
                  <a:pt x="8086" y="13618"/>
                </a:cubicBezTo>
                <a:cubicBezTo>
                  <a:pt x="7922" y="13866"/>
                  <a:pt x="7610" y="14071"/>
                  <a:pt x="8062" y="13791"/>
                </a:cubicBezTo>
                <a:cubicBezTo>
                  <a:pt x="8462" y="13543"/>
                  <a:pt x="8262" y="13761"/>
                  <a:pt x="8111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5562720"/>
            <a:ext cx="3643200" cy="420480"/>
          </a:xfrm>
          <a:custGeom>
            <a:avLst/>
            <a:gdLst/>
            <a:ahLst/>
            <a:rect l="l" t="t" r="r" b="b"/>
            <a:pathLst>
              <a:path w="10121" h="1167">
                <a:moveTo>
                  <a:pt x="12700" y="16123"/>
                </a:moveTo>
                <a:cubicBezTo>
                  <a:pt x="12866" y="16132"/>
                  <a:pt x="13418" y="16203"/>
                  <a:pt x="13122" y="16520"/>
                </a:cubicBezTo>
                <a:cubicBezTo>
                  <a:pt x="12974" y="16679"/>
                  <a:pt x="12850" y="16632"/>
                  <a:pt x="12725" y="16545"/>
                </a:cubicBezTo>
              </a:path>
              <a:path w="10121" h="1167">
                <a:moveTo>
                  <a:pt x="13742" y="15974"/>
                </a:moveTo>
                <a:cubicBezTo>
                  <a:pt x="13742" y="15982"/>
                  <a:pt x="13742" y="15991"/>
                  <a:pt x="13742" y="15999"/>
                </a:cubicBezTo>
              </a:path>
              <a:path w="10121" h="1167">
                <a:moveTo>
                  <a:pt x="13742" y="15999"/>
                </a:moveTo>
                <a:lnTo>
                  <a:pt x="13742" y="15999"/>
                </a:lnTo>
              </a:path>
              <a:path w="10121" h="1167">
                <a:moveTo>
                  <a:pt x="21059" y="15801"/>
                </a:moveTo>
                <a:cubicBezTo>
                  <a:pt x="21032" y="15901"/>
                  <a:pt x="21017" y="15994"/>
                  <a:pt x="21010" y="16098"/>
                </a:cubicBezTo>
              </a:path>
              <a:path w="10121" h="1167">
                <a:moveTo>
                  <a:pt x="21010" y="16098"/>
                </a:moveTo>
                <a:lnTo>
                  <a:pt x="21010" y="16098"/>
                </a:lnTo>
              </a:path>
              <a:path w="10121" h="1167">
                <a:moveTo>
                  <a:pt x="21010" y="15453"/>
                </a:moveTo>
                <a:cubicBezTo>
                  <a:pt x="21010" y="15461"/>
                  <a:pt x="21010" y="15470"/>
                  <a:pt x="21010" y="15478"/>
                </a:cubicBezTo>
              </a:path>
              <a:path w="10121" h="1167">
                <a:moveTo>
                  <a:pt x="22076" y="15677"/>
                </a:moveTo>
                <a:cubicBezTo>
                  <a:pt x="22325" y="15648"/>
                  <a:pt x="22571" y="15617"/>
                  <a:pt x="22820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07000" y="5796000"/>
            <a:ext cx="152280" cy="71280"/>
          </a:xfrm>
          <a:custGeom>
            <a:avLst/>
            <a:gdLst/>
            <a:ahLst/>
            <a:rect l="l" t="t" r="r" b="b"/>
            <a:pathLst>
              <a:path w="423" h="200">
                <a:moveTo>
                  <a:pt x="15577" y="16123"/>
                </a:moveTo>
                <a:cubicBezTo>
                  <a:pt x="15717" y="16104"/>
                  <a:pt x="15873" y="16069"/>
                  <a:pt x="15999" y="16123"/>
                </a:cubicBezTo>
              </a:path>
              <a:path w="423" h="200">
                <a:moveTo>
                  <a:pt x="15602" y="16297"/>
                </a:moveTo>
                <a:cubicBezTo>
                  <a:pt x="15718" y="16297"/>
                  <a:pt x="15833" y="16297"/>
                  <a:pt x="15949" y="162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81320" y="5483160"/>
            <a:ext cx="571680" cy="731880"/>
          </a:xfrm>
          <a:custGeom>
            <a:avLst/>
            <a:gdLst/>
            <a:ahLst/>
            <a:rect l="l" t="t" r="r" b="b"/>
            <a:pathLst>
              <a:path w="1588" h="2035">
                <a:moveTo>
                  <a:pt x="12923" y="16371"/>
                </a:moveTo>
                <a:cubicBezTo>
                  <a:pt x="12823" y="16673"/>
                  <a:pt x="12739" y="16988"/>
                  <a:pt x="12576" y="17264"/>
                </a:cubicBezTo>
                <a:cubicBezTo>
                  <a:pt x="12576" y="17171"/>
                  <a:pt x="12591" y="17097"/>
                  <a:pt x="12626" y="17016"/>
                </a:cubicBezTo>
              </a:path>
              <a:path w="1588" h="2035">
                <a:moveTo>
                  <a:pt x="11336" y="15677"/>
                </a:moveTo>
                <a:cubicBezTo>
                  <a:pt x="11469" y="15876"/>
                  <a:pt x="11569" y="16146"/>
                  <a:pt x="11658" y="16396"/>
                </a:cubicBezTo>
                <a:cubicBezTo>
                  <a:pt x="11705" y="16527"/>
                  <a:pt x="11753" y="16647"/>
                  <a:pt x="11807" y="16768"/>
                </a:cubicBezTo>
                <a:cubicBezTo>
                  <a:pt x="11851" y="16485"/>
                  <a:pt x="11908" y="16248"/>
                  <a:pt x="12005" y="15974"/>
                </a:cubicBezTo>
                <a:cubicBezTo>
                  <a:pt x="12039" y="15879"/>
                  <a:pt x="12265" y="15274"/>
                  <a:pt x="12328" y="15255"/>
                </a:cubicBezTo>
                <a:cubicBezTo>
                  <a:pt x="12353" y="15271"/>
                  <a:pt x="12377" y="15288"/>
                  <a:pt x="12402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03840" y="5803920"/>
            <a:ext cx="625320" cy="214200"/>
          </a:xfrm>
          <a:custGeom>
            <a:avLst/>
            <a:gdLst/>
            <a:ahLst/>
            <a:rect l="l" t="t" r="r" b="b"/>
            <a:pathLst>
              <a:path w="1737" h="596">
                <a:moveTo>
                  <a:pt x="13345" y="16446"/>
                </a:moveTo>
                <a:cubicBezTo>
                  <a:pt x="13345" y="16556"/>
                  <a:pt x="13318" y="16579"/>
                  <a:pt x="13370" y="16619"/>
                </a:cubicBezTo>
                <a:cubicBezTo>
                  <a:pt x="13432" y="16493"/>
                  <a:pt x="13458" y="16309"/>
                  <a:pt x="13543" y="16197"/>
                </a:cubicBezTo>
                <a:cubicBezTo>
                  <a:pt x="13551" y="16197"/>
                  <a:pt x="13560" y="16197"/>
                  <a:pt x="13568" y="16197"/>
                </a:cubicBezTo>
              </a:path>
              <a:path w="1737" h="596">
                <a:moveTo>
                  <a:pt x="13767" y="16272"/>
                </a:moveTo>
                <a:cubicBezTo>
                  <a:pt x="13791" y="16418"/>
                  <a:pt x="13782" y="16546"/>
                  <a:pt x="13767" y="16694"/>
                </a:cubicBezTo>
                <a:cubicBezTo>
                  <a:pt x="13767" y="16726"/>
                  <a:pt x="13767" y="16726"/>
                  <a:pt x="13767" y="16669"/>
                </a:cubicBezTo>
              </a:path>
              <a:path w="1737" h="596">
                <a:moveTo>
                  <a:pt x="14362" y="16173"/>
                </a:moveTo>
                <a:cubicBezTo>
                  <a:pt x="14287" y="16259"/>
                  <a:pt x="14231" y="16356"/>
                  <a:pt x="14163" y="16446"/>
                </a:cubicBezTo>
                <a:cubicBezTo>
                  <a:pt x="14253" y="16446"/>
                  <a:pt x="14556" y="16410"/>
                  <a:pt x="14436" y="16594"/>
                </a:cubicBezTo>
                <a:cubicBezTo>
                  <a:pt x="14329" y="16758"/>
                  <a:pt x="14216" y="16688"/>
                  <a:pt x="14089" y="16644"/>
                </a:cubicBezTo>
              </a:path>
              <a:path w="1737" h="596">
                <a:moveTo>
                  <a:pt x="14511" y="16321"/>
                </a:moveTo>
                <a:cubicBezTo>
                  <a:pt x="14532" y="16470"/>
                  <a:pt x="14541" y="16502"/>
                  <a:pt x="14536" y="16594"/>
                </a:cubicBezTo>
                <a:cubicBezTo>
                  <a:pt x="14536" y="16637"/>
                  <a:pt x="14563" y="16286"/>
                  <a:pt x="14585" y="16247"/>
                </a:cubicBezTo>
                <a:cubicBezTo>
                  <a:pt x="14746" y="15967"/>
                  <a:pt x="14803" y="16454"/>
                  <a:pt x="14808" y="16520"/>
                </a:cubicBezTo>
                <a:cubicBezTo>
                  <a:pt x="14758" y="16443"/>
                  <a:pt x="14864" y="16249"/>
                  <a:pt x="14957" y="16123"/>
                </a:cubicBezTo>
                <a:cubicBezTo>
                  <a:pt x="15103" y="16255"/>
                  <a:pt x="15079" y="16388"/>
                  <a:pt x="15056" y="16594"/>
                </a:cubicBezTo>
                <a:cubicBezTo>
                  <a:pt x="15056" y="16578"/>
                  <a:pt x="15056" y="16561"/>
                  <a:pt x="15056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6760" y="5483160"/>
            <a:ext cx="669960" cy="374760"/>
          </a:xfrm>
          <a:custGeom>
            <a:avLst/>
            <a:gdLst/>
            <a:ahLst/>
            <a:rect l="l" t="t" r="r" b="b"/>
            <a:pathLst>
              <a:path w="1862" h="1043">
                <a:moveTo>
                  <a:pt x="16991" y="15230"/>
                </a:moveTo>
                <a:cubicBezTo>
                  <a:pt x="17014" y="15545"/>
                  <a:pt x="17016" y="15857"/>
                  <a:pt x="17016" y="16173"/>
                </a:cubicBezTo>
                <a:cubicBezTo>
                  <a:pt x="17016" y="16189"/>
                  <a:pt x="17016" y="16206"/>
                  <a:pt x="17016" y="16222"/>
                </a:cubicBezTo>
                <a:cubicBezTo>
                  <a:pt x="17033" y="16072"/>
                  <a:pt x="17033" y="15741"/>
                  <a:pt x="17214" y="15677"/>
                </a:cubicBezTo>
                <a:cubicBezTo>
                  <a:pt x="17289" y="15685"/>
                  <a:pt x="17363" y="15693"/>
                  <a:pt x="17438" y="15701"/>
                </a:cubicBezTo>
                <a:cubicBezTo>
                  <a:pt x="17469" y="15881"/>
                  <a:pt x="17528" y="16373"/>
                  <a:pt x="17140" y="16272"/>
                </a:cubicBezTo>
                <a:cubicBezTo>
                  <a:pt x="16894" y="16208"/>
                  <a:pt x="17074" y="16051"/>
                  <a:pt x="17140" y="15999"/>
                </a:cubicBezTo>
              </a:path>
              <a:path w="1862" h="1043">
                <a:moveTo>
                  <a:pt x="17909" y="15900"/>
                </a:moveTo>
                <a:cubicBezTo>
                  <a:pt x="17731" y="15739"/>
                  <a:pt x="17587" y="15963"/>
                  <a:pt x="17537" y="16173"/>
                </a:cubicBezTo>
                <a:cubicBezTo>
                  <a:pt x="17545" y="16206"/>
                  <a:pt x="17554" y="16239"/>
                  <a:pt x="17562" y="16272"/>
                </a:cubicBezTo>
                <a:cubicBezTo>
                  <a:pt x="17833" y="16187"/>
                  <a:pt x="17655" y="16032"/>
                  <a:pt x="17810" y="15875"/>
                </a:cubicBezTo>
                <a:cubicBezTo>
                  <a:pt x="17908" y="15776"/>
                  <a:pt x="17820" y="16172"/>
                  <a:pt x="17959" y="16173"/>
                </a:cubicBezTo>
              </a:path>
              <a:path w="1862" h="1043">
                <a:moveTo>
                  <a:pt x="18207" y="15751"/>
                </a:moveTo>
                <a:cubicBezTo>
                  <a:pt x="18098" y="15838"/>
                  <a:pt x="18061" y="15853"/>
                  <a:pt x="18058" y="15949"/>
                </a:cubicBezTo>
                <a:cubicBezTo>
                  <a:pt x="18152" y="15981"/>
                  <a:pt x="18474" y="16030"/>
                  <a:pt x="18331" y="16173"/>
                </a:cubicBezTo>
                <a:cubicBezTo>
                  <a:pt x="18173" y="16331"/>
                  <a:pt x="18131" y="16237"/>
                  <a:pt x="18033" y="16123"/>
                </a:cubicBezTo>
              </a:path>
              <a:path w="1862" h="1043">
                <a:moveTo>
                  <a:pt x="18405" y="15925"/>
                </a:moveTo>
                <a:cubicBezTo>
                  <a:pt x="18505" y="15974"/>
                  <a:pt x="18592" y="15998"/>
                  <a:pt x="18703" y="16024"/>
                </a:cubicBezTo>
                <a:cubicBezTo>
                  <a:pt x="18703" y="15928"/>
                  <a:pt x="18662" y="15698"/>
                  <a:pt x="18504" y="15801"/>
                </a:cubicBezTo>
                <a:cubicBezTo>
                  <a:pt x="18404" y="15950"/>
                  <a:pt x="18371" y="16000"/>
                  <a:pt x="18355" y="16123"/>
                </a:cubicBezTo>
                <a:cubicBezTo>
                  <a:pt x="18580" y="16252"/>
                  <a:pt x="18581" y="16201"/>
                  <a:pt x="18852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39000" y="5402160"/>
            <a:ext cx="1241280" cy="536760"/>
          </a:xfrm>
          <a:custGeom>
            <a:avLst/>
            <a:gdLst/>
            <a:ahLst/>
            <a:rect l="l" t="t" r="r" b="b"/>
            <a:pathLst>
              <a:path w="3449" h="1489">
                <a:moveTo>
                  <a:pt x="19348" y="15900"/>
                </a:moveTo>
                <a:cubicBezTo>
                  <a:pt x="19286" y="16022"/>
                  <a:pt x="19470" y="15894"/>
                  <a:pt x="19496" y="15875"/>
                </a:cubicBezTo>
                <a:cubicBezTo>
                  <a:pt x="19469" y="15847"/>
                  <a:pt x="19465" y="15865"/>
                  <a:pt x="19422" y="15900"/>
                </a:cubicBezTo>
              </a:path>
              <a:path w="3449" h="1489">
                <a:moveTo>
                  <a:pt x="19893" y="15007"/>
                </a:moveTo>
                <a:cubicBezTo>
                  <a:pt x="19902" y="15391"/>
                  <a:pt x="19920" y="15765"/>
                  <a:pt x="19893" y="16148"/>
                </a:cubicBezTo>
                <a:cubicBezTo>
                  <a:pt x="19893" y="16156"/>
                  <a:pt x="19893" y="16165"/>
                  <a:pt x="19893" y="16173"/>
                </a:cubicBezTo>
                <a:cubicBezTo>
                  <a:pt x="19922" y="16000"/>
                  <a:pt x="19985" y="15761"/>
                  <a:pt x="20141" y="15652"/>
                </a:cubicBezTo>
                <a:cubicBezTo>
                  <a:pt x="20182" y="15644"/>
                  <a:pt x="20224" y="15635"/>
                  <a:pt x="20265" y="15627"/>
                </a:cubicBezTo>
                <a:cubicBezTo>
                  <a:pt x="20456" y="15817"/>
                  <a:pt x="20365" y="15872"/>
                  <a:pt x="20389" y="16123"/>
                </a:cubicBezTo>
                <a:cubicBezTo>
                  <a:pt x="20396" y="16196"/>
                  <a:pt x="20507" y="16096"/>
                  <a:pt x="20563" y="16049"/>
                </a:cubicBezTo>
              </a:path>
              <a:path w="3449" h="1489">
                <a:moveTo>
                  <a:pt x="20662" y="15850"/>
                </a:moveTo>
                <a:cubicBezTo>
                  <a:pt x="20720" y="15850"/>
                  <a:pt x="20762" y="15850"/>
                  <a:pt x="20811" y="15825"/>
                </a:cubicBezTo>
                <a:cubicBezTo>
                  <a:pt x="20732" y="15699"/>
                  <a:pt x="20692" y="15681"/>
                  <a:pt x="20613" y="15850"/>
                </a:cubicBezTo>
                <a:cubicBezTo>
                  <a:pt x="20516" y="16058"/>
                  <a:pt x="20658" y="16204"/>
                  <a:pt x="20861" y="16049"/>
                </a:cubicBezTo>
                <a:cubicBezTo>
                  <a:pt x="20902" y="15999"/>
                  <a:pt x="20944" y="15950"/>
                  <a:pt x="20985" y="15900"/>
                </a:cubicBezTo>
              </a:path>
              <a:path w="3449" h="1489">
                <a:moveTo>
                  <a:pt x="21456" y="15825"/>
                </a:moveTo>
                <a:cubicBezTo>
                  <a:pt x="21335" y="15921"/>
                  <a:pt x="21284" y="15945"/>
                  <a:pt x="21233" y="16098"/>
                </a:cubicBezTo>
                <a:cubicBezTo>
                  <a:pt x="21394" y="16061"/>
                  <a:pt x="21476" y="15987"/>
                  <a:pt x="21530" y="15825"/>
                </a:cubicBezTo>
                <a:cubicBezTo>
                  <a:pt x="21530" y="15817"/>
                  <a:pt x="21530" y="15809"/>
                  <a:pt x="21530" y="15801"/>
                </a:cubicBezTo>
                <a:cubicBezTo>
                  <a:pt x="21489" y="16034"/>
                  <a:pt x="21449" y="16260"/>
                  <a:pt x="21431" y="16495"/>
                </a:cubicBezTo>
                <a:cubicBezTo>
                  <a:pt x="21431" y="16487"/>
                  <a:pt x="21431" y="16478"/>
                  <a:pt x="21431" y="16470"/>
                </a:cubicBezTo>
              </a:path>
              <a:path w="3449" h="1489">
                <a:moveTo>
                  <a:pt x="21803" y="15304"/>
                </a:moveTo>
                <a:cubicBezTo>
                  <a:pt x="21794" y="15476"/>
                  <a:pt x="21726" y="15917"/>
                  <a:pt x="21779" y="16049"/>
                </a:cubicBezTo>
                <a:cubicBezTo>
                  <a:pt x="21839" y="15910"/>
                  <a:pt x="21889" y="15569"/>
                  <a:pt x="21977" y="15776"/>
                </a:cubicBezTo>
                <a:cubicBezTo>
                  <a:pt x="22063" y="15979"/>
                  <a:pt x="22061" y="16012"/>
                  <a:pt x="22250" y="16024"/>
                </a:cubicBezTo>
              </a:path>
              <a:path w="3449" h="1489">
                <a:moveTo>
                  <a:pt x="22399" y="15205"/>
                </a:moveTo>
                <a:cubicBezTo>
                  <a:pt x="22399" y="15438"/>
                  <a:pt x="22343" y="15751"/>
                  <a:pt x="22423" y="15974"/>
                </a:cubicBezTo>
                <a:cubicBezTo>
                  <a:pt x="22478" y="16127"/>
                  <a:pt x="22675" y="15950"/>
                  <a:pt x="22721" y="15925"/>
                </a:cubicBezTo>
              </a:path>
              <a:path w="3449" h="1489">
                <a:moveTo>
                  <a:pt x="19422" y="15850"/>
                </a:moveTo>
                <a:cubicBezTo>
                  <a:pt x="19483" y="15820"/>
                  <a:pt x="19359" y="15788"/>
                  <a:pt x="19348" y="15801"/>
                </a:cubicBezTo>
                <a:cubicBezTo>
                  <a:pt x="19340" y="15826"/>
                  <a:pt x="19331" y="15850"/>
                  <a:pt x="19323" y="15875"/>
                </a:cubicBezTo>
                <a:cubicBezTo>
                  <a:pt x="19369" y="15984"/>
                  <a:pt x="19544" y="15954"/>
                  <a:pt x="19521" y="15801"/>
                </a:cubicBezTo>
                <a:cubicBezTo>
                  <a:pt x="19503" y="15685"/>
                  <a:pt x="19218" y="15864"/>
                  <a:pt x="19273" y="15900"/>
                </a:cubicBezTo>
                <a:cubicBezTo>
                  <a:pt x="19372" y="15925"/>
                  <a:pt x="19406" y="15933"/>
                  <a:pt x="19472" y="15900"/>
                </a:cubicBezTo>
                <a:cubicBezTo>
                  <a:pt x="19459" y="15785"/>
                  <a:pt x="19473" y="15817"/>
                  <a:pt x="19348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83200" y="4911840"/>
            <a:ext cx="177840" cy="339480"/>
          </a:xfrm>
          <a:custGeom>
            <a:avLst/>
            <a:gdLst/>
            <a:ahLst/>
            <a:rect l="l" t="t" r="r" b="b"/>
            <a:pathLst>
              <a:path w="497" h="943">
                <a:moveTo>
                  <a:pt x="16892" y="13990"/>
                </a:moveTo>
                <a:cubicBezTo>
                  <a:pt x="16795" y="14182"/>
                  <a:pt x="16721" y="14398"/>
                  <a:pt x="16619" y="14585"/>
                </a:cubicBezTo>
                <a:cubicBezTo>
                  <a:pt x="16619" y="14577"/>
                  <a:pt x="16619" y="14568"/>
                  <a:pt x="16619" y="14560"/>
                </a:cubicBezTo>
                <a:cubicBezTo>
                  <a:pt x="16746" y="14251"/>
                  <a:pt x="16828" y="13925"/>
                  <a:pt x="16991" y="13643"/>
                </a:cubicBezTo>
                <a:cubicBezTo>
                  <a:pt x="17101" y="13898"/>
                  <a:pt x="17110" y="14112"/>
                  <a:pt x="17115" y="14387"/>
                </a:cubicBezTo>
                <a:cubicBezTo>
                  <a:pt x="17116" y="14437"/>
                  <a:pt x="17115" y="14536"/>
                  <a:pt x="17115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45120" y="5081760"/>
            <a:ext cx="331920" cy="187200"/>
          </a:xfrm>
          <a:custGeom>
            <a:avLst/>
            <a:gdLst/>
            <a:ahLst/>
            <a:rect l="l" t="t" r="r" b="b"/>
            <a:pathLst>
              <a:path w="919" h="522">
                <a:moveTo>
                  <a:pt x="16793" y="14312"/>
                </a:moveTo>
                <a:cubicBezTo>
                  <a:pt x="16967" y="14272"/>
                  <a:pt x="17141" y="14232"/>
                  <a:pt x="17314" y="14188"/>
                </a:cubicBezTo>
                <a:cubicBezTo>
                  <a:pt x="17360" y="14315"/>
                  <a:pt x="17359" y="14490"/>
                  <a:pt x="17388" y="14635"/>
                </a:cubicBezTo>
                <a:cubicBezTo>
                  <a:pt x="17388" y="14491"/>
                  <a:pt x="17398" y="14311"/>
                  <a:pt x="17487" y="14188"/>
                </a:cubicBezTo>
                <a:cubicBezTo>
                  <a:pt x="17573" y="14069"/>
                  <a:pt x="17643" y="14134"/>
                  <a:pt x="17711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48240" y="5089680"/>
            <a:ext cx="81000" cy="169560"/>
          </a:xfrm>
          <a:custGeom>
            <a:avLst/>
            <a:gdLst/>
            <a:ahLst/>
            <a:rect l="l" t="t" r="r" b="b"/>
            <a:pathLst>
              <a:path w="224" h="472">
                <a:moveTo>
                  <a:pt x="17711" y="14387"/>
                </a:moveTo>
                <a:cubicBezTo>
                  <a:pt x="17807" y="14290"/>
                  <a:pt x="17834" y="14278"/>
                  <a:pt x="17859" y="14139"/>
                </a:cubicBezTo>
                <a:cubicBezTo>
                  <a:pt x="17804" y="14180"/>
                  <a:pt x="17449" y="14550"/>
                  <a:pt x="17686" y="14610"/>
                </a:cubicBezTo>
                <a:cubicBezTo>
                  <a:pt x="17736" y="14593"/>
                  <a:pt x="17785" y="14577"/>
                  <a:pt x="17835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0240" y="5099040"/>
            <a:ext cx="177840" cy="125280"/>
          </a:xfrm>
          <a:custGeom>
            <a:avLst/>
            <a:gdLst/>
            <a:ahLst/>
            <a:rect l="l" t="t" r="r" b="b"/>
            <a:pathLst>
              <a:path w="497" h="349">
                <a:moveTo>
                  <a:pt x="18231" y="14163"/>
                </a:moveTo>
                <a:cubicBezTo>
                  <a:pt x="18189" y="14200"/>
                  <a:pt x="17985" y="14597"/>
                  <a:pt x="18157" y="14511"/>
                </a:cubicBezTo>
                <a:cubicBezTo>
                  <a:pt x="18242" y="14397"/>
                  <a:pt x="18272" y="14345"/>
                  <a:pt x="18281" y="14238"/>
                </a:cubicBezTo>
                <a:cubicBezTo>
                  <a:pt x="18296" y="14243"/>
                  <a:pt x="18337" y="14566"/>
                  <a:pt x="18504" y="14486"/>
                </a:cubicBezTo>
                <a:cubicBezTo>
                  <a:pt x="18529" y="14445"/>
                  <a:pt x="18554" y="14403"/>
                  <a:pt x="18579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49960" y="5402160"/>
            <a:ext cx="127080" cy="135000"/>
          </a:xfrm>
          <a:custGeom>
            <a:avLst/>
            <a:gdLst/>
            <a:ahLst/>
            <a:rect l="l" t="t" r="r" b="b"/>
            <a:pathLst>
              <a:path w="349" h="373">
                <a:moveTo>
                  <a:pt x="17462" y="15056"/>
                </a:moveTo>
                <a:cubicBezTo>
                  <a:pt x="17417" y="15170"/>
                  <a:pt x="17383" y="15262"/>
                  <a:pt x="17363" y="15379"/>
                </a:cubicBezTo>
                <a:cubicBezTo>
                  <a:pt x="17458" y="15358"/>
                  <a:pt x="17863" y="15217"/>
                  <a:pt x="17686" y="15032"/>
                </a:cubicBezTo>
                <a:cubicBezTo>
                  <a:pt x="17560" y="15007"/>
                  <a:pt x="17516" y="14999"/>
                  <a:pt x="17438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4960" y="5295960"/>
            <a:ext cx="81000" cy="268200"/>
          </a:xfrm>
          <a:custGeom>
            <a:avLst/>
            <a:gdLst/>
            <a:ahLst/>
            <a:rect l="l" t="t" r="r" b="b"/>
            <a:pathLst>
              <a:path w="225" h="745">
                <a:moveTo>
                  <a:pt x="17909" y="14709"/>
                </a:moveTo>
                <a:cubicBezTo>
                  <a:pt x="17702" y="14848"/>
                  <a:pt x="17702" y="14899"/>
                  <a:pt x="17835" y="15106"/>
                </a:cubicBezTo>
                <a:cubicBezTo>
                  <a:pt x="17904" y="15214"/>
                  <a:pt x="18058" y="15427"/>
                  <a:pt x="17859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30960" y="5411880"/>
            <a:ext cx="179280" cy="36360"/>
          </a:xfrm>
          <a:custGeom>
            <a:avLst/>
            <a:gdLst/>
            <a:ahLst/>
            <a:rect l="l" t="t" r="r" b="b"/>
            <a:pathLst>
              <a:path w="497" h="100">
                <a:moveTo>
                  <a:pt x="17587" y="15131"/>
                </a:moveTo>
                <a:cubicBezTo>
                  <a:pt x="17756" y="15104"/>
                  <a:pt x="17916" y="15073"/>
                  <a:pt x="18083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work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zzazz Worksheet D-69 (calculators allow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2:29:41Z</dcterms:created>
  <dc:creator>TAMMY  COON</dc:creator>
  <dc:description/>
  <dc:language>en-US</dc:language>
  <cp:lastModifiedBy>demcgra</cp:lastModifiedBy>
  <dcterms:modified xsi:type="dcterms:W3CDTF">2012-02-22T17:33:37Z</dcterms:modified>
  <cp:revision>15</cp:revision>
  <dc:subject/>
  <dc:title>Unit 7: Measurement</dc:title>
</cp:coreProperties>
</file>